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FCB4C-CCDB-4EDF-814F-FE44E9346B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6ED89-8BD4-4D98-966B-5DFB739A8E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B011D-DA06-4CF6-9F16-9C4BD2D160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3C7-07B8-4BB6-A9A0-DD569B29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D6D-02C8-4864-9F5E-E12E980B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C1B-A85B-48EF-B0CF-1B5937A7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B83-CC12-41C9-82F4-2DC9B4D0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BE0-30CC-4B15-81DA-84F0C51D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F56-F7C1-4A90-B031-77249B01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98B-0E51-43EE-8912-0768D0E9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AC8-94E1-415E-AA6D-D70C413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B6C-7D1E-462B-A9A2-7DADD793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296-C5CA-40B8-BF92-6765C1A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B0D-A2FA-4273-9DCC-581A851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6EC-90D5-46F1-BC02-CA636FF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55E5F-468C-43FB-BAE2-E8A0A5C434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0640" y="2381400"/>
            <a:ext cx="5662800" cy="30891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749600"/>
            <a:ext cx="722664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2443320" y="2585880"/>
            <a:ext cx="4257360" cy="2468880"/>
            <a:chOff x="2443320" y="2585880"/>
            <a:chExt cx="4257360" cy="2468880"/>
          </a:xfrm>
        </p:grpSpPr>
        <p:sp>
          <p:nvSpPr>
            <p:cNvPr id="53" name="矩形 13324"/>
            <p:cNvSpPr/>
            <p:nvPr/>
          </p:nvSpPr>
          <p:spPr>
            <a:xfrm>
              <a:off x="2455920" y="2585880"/>
              <a:ext cx="4244760" cy="24688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47"/>
            <p:cNvSpPr/>
            <p:nvPr/>
          </p:nvSpPr>
          <p:spPr>
            <a:xfrm>
              <a:off x="2443320" y="3321360"/>
              <a:ext cx="4257360" cy="1069200"/>
            </a:xfrm>
            <a:prstGeom prst="rect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江南春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唐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]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杜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3338"/>
          <p:cNvGrpSpPr/>
          <p:nvPr/>
        </p:nvGrpSpPr>
        <p:grpSpPr>
          <a:xfrm>
            <a:off x="2161080" y="782640"/>
            <a:ext cx="4820760" cy="1181160"/>
            <a:chOff x="2161080" y="782640"/>
            <a:chExt cx="4820760" cy="1181160"/>
          </a:xfrm>
        </p:grpSpPr>
        <p:sp>
          <p:nvSpPr>
            <p:cNvPr id="56" name="Text Box 2"/>
            <p:cNvSpPr/>
            <p:nvPr/>
          </p:nvSpPr>
          <p:spPr>
            <a:xfrm>
              <a:off x="3421080" y="92988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三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组合 13337"/>
            <p:cNvGrpSpPr/>
            <p:nvPr/>
          </p:nvGrpSpPr>
          <p:grpSpPr>
            <a:xfrm>
              <a:off x="2161080" y="782640"/>
              <a:ext cx="1181880" cy="1181160"/>
              <a:chOff x="2161080" y="782640"/>
              <a:chExt cx="1181880" cy="1181160"/>
            </a:xfrm>
          </p:grpSpPr>
          <p:sp>
            <p:nvSpPr>
              <p:cNvPr id="58" name="AutoShape 11"/>
              <p:cNvSpPr/>
              <p:nvPr/>
            </p:nvSpPr>
            <p:spPr>
              <a:xfrm>
                <a:off x="2162160" y="78264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文本框 13"/>
              <p:cNvSpPr/>
              <p:nvPr/>
            </p:nvSpPr>
            <p:spPr>
              <a:xfrm>
                <a:off x="2161080" y="84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" name="组合 2"/>
          <p:cNvGrpSpPr/>
          <p:nvPr/>
        </p:nvGrpSpPr>
        <p:grpSpPr>
          <a:xfrm>
            <a:off x="1027080" y="5681520"/>
            <a:ext cx="7089840" cy="579600"/>
            <a:chOff x="1027080" y="5681520"/>
            <a:chExt cx="7089840" cy="579600"/>
          </a:xfrm>
        </p:grpSpPr>
        <p:pic>
          <p:nvPicPr>
            <p:cNvPr id="61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2708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41344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525312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383040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24" descr=""/>
            <p:cNvPicPr/>
            <p:nvPr/>
          </p:nvPicPr>
          <p:blipFill>
            <a:blip r:embed="rId8"/>
            <a:stretch/>
          </p:blipFill>
          <p:spPr>
            <a:xfrm>
              <a:off x="6688080" y="5681520"/>
              <a:ext cx="1428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354040" y="5854680"/>
              <a:ext cx="129240" cy="164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3759120" y="5854680"/>
              <a:ext cx="129240" cy="164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27"/>
            <p:cNvSpPr/>
            <p:nvPr/>
          </p:nvSpPr>
          <p:spPr>
            <a:xfrm rot="5400000">
              <a:off x="5177880" y="5852880"/>
              <a:ext cx="127800" cy="1897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流程图: 摘录 41"/>
            <p:cNvSpPr/>
            <p:nvPr/>
          </p:nvSpPr>
          <p:spPr>
            <a:xfrm rot="5400000">
              <a:off x="6624000" y="5832720"/>
              <a:ext cx="126360" cy="2196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27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1"/>
          <p:cNvSpPr/>
          <p:nvPr/>
        </p:nvSpPr>
        <p:spPr>
          <a:xfrm>
            <a:off x="1273320" y="2476440"/>
            <a:ext cx="70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是描写江南风光的一首七绝。江南多么迷人，多么令人向往，杜牧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江南春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中不仅描绘了明媚的江南春光，而且还再现了江南烟雨蒙蒙的楼台景色，使江南风光神奇迷离，别有一番情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973080" y="1617840"/>
            <a:ext cx="7819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千里莺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线形标注 1 10"/>
          <p:cNvSpPr/>
          <p:nvPr/>
        </p:nvSpPr>
        <p:spPr>
          <a:xfrm>
            <a:off x="1047600" y="3111480"/>
            <a:ext cx="7450200" cy="1191240"/>
          </a:xfrm>
          <a:prstGeom prst="borderCallout1">
            <a:avLst>
              <a:gd name="adj1" fmla="val 18750"/>
              <a:gd name="adj2" fmla="val -8333"/>
              <a:gd name="adj3" fmla="val -30328"/>
              <a:gd name="adj4" fmla="val 615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两句写了“辽阔的千里江南，黄莺在欢乐地歌唱，丛丛绿树映着簇簇红花；傍水的村庄、依山的城郭、迎风招展的酒旗，一一在望”的景象。这两句写的是诗人眼前之景，旨在说明风景、江山依旧，借以衬托下文的诗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4" name="组合 9"/>
          <p:cNvGrpSpPr/>
          <p:nvPr/>
        </p:nvGrpSpPr>
        <p:grpSpPr>
          <a:xfrm>
            <a:off x="754200" y="2550960"/>
            <a:ext cx="7640640" cy="560520"/>
            <a:chOff x="754200" y="2550960"/>
            <a:chExt cx="7640640" cy="560520"/>
          </a:xfrm>
        </p:grpSpPr>
        <p:sp>
          <p:nvSpPr>
            <p:cNvPr id="135" name="直接连接符 12"/>
            <p:cNvSpPr/>
            <p:nvPr/>
          </p:nvSpPr>
          <p:spPr>
            <a:xfrm>
              <a:off x="930240" y="3111480"/>
              <a:ext cx="744552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任意多边形 13"/>
            <p:cNvSpPr/>
            <p:nvPr/>
          </p:nvSpPr>
          <p:spPr>
            <a:xfrm>
              <a:off x="754200" y="2550960"/>
              <a:ext cx="764064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《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江南春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》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的前两句写了什么景象？用意何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1116000" y="1157400"/>
            <a:ext cx="7819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南朝四百八十寺，多少楼台烟雨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1065240" y="287172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运用了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宋体"/>
              </a:rPr>
              <a:t>借古讽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表现手法，诗人联想到南朝统治者迷信佛教，广建佛寺，意图靠神灵保佑，永保江山稳固。可是时移世易，当年的佛寺楼台多数早已倒塌，现在还剩几座掩映在苍茫的烟雨中呢？这是诗人站在历史的高度，无情地讽刺那些愚妄的统治者，意在言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7"/>
          <p:cNvSpPr/>
          <p:nvPr/>
        </p:nvSpPr>
        <p:spPr>
          <a:xfrm>
            <a:off x="1004760" y="2563920"/>
            <a:ext cx="7066080" cy="56016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"/>
          <p:cNvGrpSpPr/>
          <p:nvPr/>
        </p:nvGrpSpPr>
        <p:grpSpPr>
          <a:xfrm>
            <a:off x="876240" y="2243160"/>
            <a:ext cx="7524720" cy="560520"/>
            <a:chOff x="876240" y="2243160"/>
            <a:chExt cx="7524720" cy="560520"/>
          </a:xfrm>
        </p:grpSpPr>
        <p:sp>
          <p:nvSpPr>
            <p:cNvPr id="141" name="直接连接符 6"/>
            <p:cNvSpPr/>
            <p:nvPr/>
          </p:nvSpPr>
          <p:spPr>
            <a:xfrm>
              <a:off x="876240" y="2803680"/>
              <a:ext cx="752472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任意多边形 8"/>
            <p:cNvSpPr/>
            <p:nvPr/>
          </p:nvSpPr>
          <p:spPr>
            <a:xfrm>
              <a:off x="939600" y="2243160"/>
              <a:ext cx="740916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《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江南春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》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的后两句运用了什么表现手法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内容占位符 2"/>
          <p:cNvSpPr/>
          <p:nvPr/>
        </p:nvSpPr>
        <p:spPr>
          <a:xfrm>
            <a:off x="646200" y="2719440"/>
            <a:ext cx="78692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这首诗描写了哪里的景色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江南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描绘了江南春景的丰富多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内容占位符 2"/>
          <p:cNvSpPr/>
          <p:nvPr/>
        </p:nvSpPr>
        <p:spPr>
          <a:xfrm>
            <a:off x="709560" y="2033640"/>
            <a:ext cx="747252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中描写的景物是什么样子的？有什么特点 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江南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，江南春天莺歌燕舞，花红柳绿，令人神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709560" y="1512720"/>
            <a:ext cx="752004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是怎样来表现景物特点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江南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，诗人在一开头，就像迅速移动的电影镜头，掠过南国大地：辽阔的千里江南，黄莺在欢乐地歌唱，丛丛绿树映着簇簇红花；傍水的村庄、依山的城郭、迎风招展的酒旗，一一在望。迷人的江南，经过诗人生花妙笔的点染，显得更加令人心旌摇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7"/>
          <p:cNvSpPr/>
          <p:nvPr/>
        </p:nvSpPr>
        <p:spPr>
          <a:xfrm>
            <a:off x="2217600" y="3957480"/>
            <a:ext cx="1125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65a"/>
                </a:solidFill>
                <a:latin typeface="黑体"/>
                <a:ea typeface="黑体"/>
              </a:rPr>
              <a:t>雨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065240" y="2718360"/>
            <a:ext cx="11858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江南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2352960" y="2660760"/>
            <a:ext cx="60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65a"/>
                </a:solidFill>
                <a:latin typeface="黑体"/>
                <a:ea typeface="黑体"/>
              </a:rPr>
              <a:t>晴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3238560" y="2216160"/>
            <a:ext cx="3460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千里莺啼绿映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水村山郭酒旗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右大括号 8"/>
          <p:cNvSpPr/>
          <p:nvPr/>
        </p:nvSpPr>
        <p:spPr>
          <a:xfrm rot="10800000">
            <a:off x="2028960" y="2921040"/>
            <a:ext cx="188640" cy="1612800"/>
          </a:xfrm>
          <a:custGeom>
            <a:avLst/>
            <a:gdLst>
              <a:gd name="textAreaLeft" fmla="*/ 0 w 188640"/>
              <a:gd name="textAreaRight" fmla="*/ 68040 w 188640"/>
              <a:gd name="textAreaTop" fmla="*/ 4680 h 1612800"/>
              <a:gd name="textAreaBottom" fmla="*/ 1608120 h 16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左大括号 3"/>
          <p:cNvSpPr/>
          <p:nvPr/>
        </p:nvSpPr>
        <p:spPr>
          <a:xfrm>
            <a:off x="3056040" y="2590920"/>
            <a:ext cx="198360" cy="79200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792000"/>
              <a:gd name="textAreaBottom" fmla="*/ 7869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6"/>
                  <a:pt x="10800" y="451"/>
                </a:cubicBezTo>
                <a:lnTo>
                  <a:pt x="10800" y="10349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6"/>
                  <a:pt x="10800" y="11251"/>
                </a:cubicBezTo>
                <a:lnTo>
                  <a:pt x="10800" y="21149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766440" y="3855240"/>
            <a:ext cx="729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杜牧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5" name="圆角矩形 13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2"/>
          <p:cNvSpPr/>
          <p:nvPr/>
        </p:nvSpPr>
        <p:spPr>
          <a:xfrm>
            <a:off x="3263760" y="3703680"/>
            <a:ext cx="317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南朝四百八十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少楼台烟雨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左大括号 16"/>
          <p:cNvSpPr/>
          <p:nvPr/>
        </p:nvSpPr>
        <p:spPr>
          <a:xfrm>
            <a:off x="3065400" y="4033800"/>
            <a:ext cx="198360" cy="7923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792360"/>
              <a:gd name="textAreaBottom" fmla="*/ 78732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6"/>
                  <a:pt x="10800" y="451"/>
                </a:cubicBezTo>
                <a:lnTo>
                  <a:pt x="10800" y="10349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6"/>
                  <a:pt x="10800" y="11251"/>
                </a:cubicBezTo>
                <a:lnTo>
                  <a:pt x="10800" y="21149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右大括号 1"/>
          <p:cNvSpPr/>
          <p:nvPr/>
        </p:nvSpPr>
        <p:spPr>
          <a:xfrm>
            <a:off x="5927760" y="2496960"/>
            <a:ext cx="306360" cy="949680"/>
          </a:xfrm>
          <a:custGeom>
            <a:avLst/>
            <a:gdLst>
              <a:gd name="textAreaLeft" fmla="*/ 0 w 306360"/>
              <a:gd name="textAreaRight" fmla="*/ 110520 w 306360"/>
              <a:gd name="textAreaTop" fmla="*/ 7920 h 949680"/>
              <a:gd name="textAreaBottom" fmla="*/ 941760 h 94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右大括号 2"/>
          <p:cNvSpPr/>
          <p:nvPr/>
        </p:nvSpPr>
        <p:spPr>
          <a:xfrm>
            <a:off x="5904000" y="3848040"/>
            <a:ext cx="330120" cy="965160"/>
          </a:xfrm>
          <a:custGeom>
            <a:avLst/>
            <a:gdLst>
              <a:gd name="textAreaLeft" fmla="*/ 0 w 330120"/>
              <a:gd name="textAreaRight" fmla="*/ 119160 w 330120"/>
              <a:gd name="textAreaTop" fmla="*/ 8280 h 965160"/>
              <a:gd name="textAreaBottom" fmla="*/ 95688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8"/>
                  <a:pt x="10800" y="616"/>
                </a:cubicBezTo>
                <a:lnTo>
                  <a:pt x="10800" y="10184"/>
                </a:lnTo>
                <a:cubicBezTo>
                  <a:pt x="10800" y="10492"/>
                  <a:pt x="16200" y="10800"/>
                  <a:pt x="21600" y="10800"/>
                </a:cubicBezTo>
                <a:cubicBezTo>
                  <a:pt x="16200" y="10800"/>
                  <a:pt x="10800" y="11108"/>
                  <a:pt x="10800" y="11416"/>
                </a:cubicBezTo>
                <a:lnTo>
                  <a:pt x="10800" y="20984"/>
                </a:lnTo>
                <a:cubicBezTo>
                  <a:pt x="10800" y="2129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6186600" y="2719440"/>
            <a:ext cx="19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6222960" y="404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借古讽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内容占位符 2"/>
          <p:cNvSpPr/>
          <p:nvPr/>
        </p:nvSpPr>
        <p:spPr>
          <a:xfrm>
            <a:off x="895320" y="2343240"/>
            <a:ext cx="741672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江南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描写江南春景的丰富多彩、广阔、深邃和迷离，表现了诗人对江南春景的赞美，也含有对历史的慨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0" name="矩形 11"/>
          <p:cNvSpPr/>
          <p:nvPr/>
        </p:nvSpPr>
        <p:spPr>
          <a:xfrm>
            <a:off x="968400" y="27288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表现了诗人对江南景物的赞美与神往。既写出了江南春景的丰富多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写出了它的广阔、深邃和迷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57160" y="2224080"/>
            <a:ext cx="758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“南朝、楼台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并能借助注释和插图等感知古诗的大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背诵古诗，理解古诗内容，想象诗歌描绘的祖国大好河山的壮丽景色，体会诗人的情感 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1190520" y="1913040"/>
            <a:ext cx="4527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杜牧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80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－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5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牧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樊川居士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京兆万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今陕西西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是唐代诗人。著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樊川文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与李商隐并称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小李杜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清明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秋夕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江南春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山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赤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泊秦淮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6016680" y="1689120"/>
            <a:ext cx="2388960" cy="394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Administrator\Desktop\3333\助读资料.png"/>
          <p:cNvPicPr/>
          <p:nvPr/>
        </p:nvPicPr>
        <p:blipFill>
          <a:blip r:embed="rId2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5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6" name="圆角矩形 12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享”横画间距相等；“阝”略偏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2"/>
          <p:cNvSpPr/>
          <p:nvPr/>
        </p:nvSpPr>
        <p:spPr>
          <a:xfrm>
            <a:off x="2003400" y="1857240"/>
            <a:ext cx="14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2"/>
          <p:cNvSpPr/>
          <p:nvPr/>
        </p:nvSpPr>
        <p:spPr>
          <a:xfrm>
            <a:off x="6208560" y="2817720"/>
            <a:ext cx="325440" cy="225360"/>
          </a:xfrm>
          <a:custGeom>
            <a:avLst/>
            <a:gdLst/>
            <a:ahLst/>
            <a:rect l="l" t="t" r="r" b="b"/>
            <a:pathLst>
              <a:path w="614" h="427">
                <a:moveTo>
                  <a:pt x="0" y="36"/>
                </a:moveTo>
                <a:lnTo>
                  <a:pt x="5" y="31"/>
                </a:lnTo>
                <a:lnTo>
                  <a:pt x="10" y="28"/>
                </a:lnTo>
                <a:lnTo>
                  <a:pt x="16" y="26"/>
                </a:lnTo>
                <a:lnTo>
                  <a:pt x="23" y="21"/>
                </a:lnTo>
                <a:lnTo>
                  <a:pt x="32" y="18"/>
                </a:lnTo>
                <a:lnTo>
                  <a:pt x="41" y="15"/>
                </a:lnTo>
                <a:lnTo>
                  <a:pt x="51" y="13"/>
                </a:lnTo>
                <a:lnTo>
                  <a:pt x="62" y="10"/>
                </a:lnTo>
                <a:lnTo>
                  <a:pt x="74" y="8"/>
                </a:lnTo>
                <a:lnTo>
                  <a:pt x="87" y="5"/>
                </a:lnTo>
                <a:lnTo>
                  <a:pt x="101" y="4"/>
                </a:lnTo>
                <a:lnTo>
                  <a:pt x="115" y="3"/>
                </a:lnTo>
                <a:lnTo>
                  <a:pt x="131" y="1"/>
                </a:lnTo>
                <a:lnTo>
                  <a:pt x="149" y="0"/>
                </a:lnTo>
                <a:lnTo>
                  <a:pt x="166" y="0"/>
                </a:lnTo>
                <a:lnTo>
                  <a:pt x="185" y="0"/>
                </a:lnTo>
                <a:lnTo>
                  <a:pt x="203" y="0"/>
                </a:lnTo>
                <a:lnTo>
                  <a:pt x="222" y="0"/>
                </a:lnTo>
                <a:lnTo>
                  <a:pt x="241" y="1"/>
                </a:lnTo>
                <a:lnTo>
                  <a:pt x="258" y="3"/>
                </a:lnTo>
                <a:lnTo>
                  <a:pt x="275" y="4"/>
                </a:lnTo>
                <a:lnTo>
                  <a:pt x="293" y="7"/>
                </a:lnTo>
                <a:lnTo>
                  <a:pt x="310" y="10"/>
                </a:lnTo>
                <a:lnTo>
                  <a:pt x="327" y="13"/>
                </a:lnTo>
                <a:lnTo>
                  <a:pt x="344" y="15"/>
                </a:lnTo>
                <a:lnTo>
                  <a:pt x="362" y="20"/>
                </a:lnTo>
                <a:lnTo>
                  <a:pt x="380" y="24"/>
                </a:lnTo>
                <a:lnTo>
                  <a:pt x="398" y="28"/>
                </a:lnTo>
                <a:lnTo>
                  <a:pt x="415" y="34"/>
                </a:lnTo>
                <a:lnTo>
                  <a:pt x="434" y="40"/>
                </a:lnTo>
                <a:lnTo>
                  <a:pt x="451" y="46"/>
                </a:lnTo>
                <a:lnTo>
                  <a:pt x="471" y="53"/>
                </a:lnTo>
                <a:lnTo>
                  <a:pt x="488" y="63"/>
                </a:lnTo>
                <a:lnTo>
                  <a:pt x="506" y="73"/>
                </a:lnTo>
                <a:lnTo>
                  <a:pt x="521" y="83"/>
                </a:lnTo>
                <a:lnTo>
                  <a:pt x="536" y="93"/>
                </a:lnTo>
                <a:lnTo>
                  <a:pt x="549" y="105"/>
                </a:lnTo>
                <a:lnTo>
                  <a:pt x="560" y="115"/>
                </a:lnTo>
                <a:lnTo>
                  <a:pt x="570" y="126"/>
                </a:lnTo>
                <a:lnTo>
                  <a:pt x="580" y="138"/>
                </a:lnTo>
                <a:lnTo>
                  <a:pt x="588" y="149"/>
                </a:lnTo>
                <a:lnTo>
                  <a:pt x="595" y="162"/>
                </a:lnTo>
                <a:lnTo>
                  <a:pt x="601" y="175"/>
                </a:lnTo>
                <a:lnTo>
                  <a:pt x="605" y="188"/>
                </a:lnTo>
                <a:lnTo>
                  <a:pt x="609" y="203"/>
                </a:lnTo>
                <a:lnTo>
                  <a:pt x="612" y="217"/>
                </a:lnTo>
                <a:lnTo>
                  <a:pt x="614" y="233"/>
                </a:lnTo>
                <a:lnTo>
                  <a:pt x="614" y="249"/>
                </a:lnTo>
                <a:lnTo>
                  <a:pt x="614" y="265"/>
                </a:lnTo>
                <a:lnTo>
                  <a:pt x="614" y="280"/>
                </a:lnTo>
                <a:lnTo>
                  <a:pt x="614" y="293"/>
                </a:lnTo>
                <a:lnTo>
                  <a:pt x="614" y="306"/>
                </a:lnTo>
                <a:lnTo>
                  <a:pt x="614" y="318"/>
                </a:lnTo>
                <a:lnTo>
                  <a:pt x="612" y="328"/>
                </a:lnTo>
                <a:lnTo>
                  <a:pt x="612" y="338"/>
                </a:lnTo>
                <a:lnTo>
                  <a:pt x="611" y="347"/>
                </a:lnTo>
                <a:lnTo>
                  <a:pt x="611" y="355"/>
                </a:lnTo>
                <a:lnTo>
                  <a:pt x="609" y="362"/>
                </a:lnTo>
                <a:lnTo>
                  <a:pt x="606" y="368"/>
                </a:lnTo>
                <a:lnTo>
                  <a:pt x="605" y="374"/>
                </a:lnTo>
                <a:lnTo>
                  <a:pt x="604" y="380"/>
                </a:lnTo>
                <a:lnTo>
                  <a:pt x="601" y="384"/>
                </a:lnTo>
                <a:lnTo>
                  <a:pt x="596" y="388"/>
                </a:lnTo>
                <a:lnTo>
                  <a:pt x="593" y="393"/>
                </a:lnTo>
                <a:lnTo>
                  <a:pt x="586" y="398"/>
                </a:lnTo>
                <a:lnTo>
                  <a:pt x="578" y="406"/>
                </a:lnTo>
                <a:lnTo>
                  <a:pt x="573" y="408"/>
                </a:lnTo>
                <a:lnTo>
                  <a:pt x="569" y="411"/>
                </a:lnTo>
                <a:lnTo>
                  <a:pt x="563" y="414"/>
                </a:lnTo>
                <a:lnTo>
                  <a:pt x="557" y="416"/>
                </a:lnTo>
                <a:lnTo>
                  <a:pt x="552" y="419"/>
                </a:lnTo>
                <a:lnTo>
                  <a:pt x="544" y="421"/>
                </a:lnTo>
                <a:lnTo>
                  <a:pt x="539" y="423"/>
                </a:lnTo>
                <a:lnTo>
                  <a:pt x="530" y="424"/>
                </a:lnTo>
                <a:lnTo>
                  <a:pt x="521" y="426"/>
                </a:lnTo>
                <a:lnTo>
                  <a:pt x="513" y="426"/>
                </a:lnTo>
                <a:lnTo>
                  <a:pt x="503" y="427"/>
                </a:lnTo>
                <a:lnTo>
                  <a:pt x="491" y="427"/>
                </a:lnTo>
                <a:lnTo>
                  <a:pt x="485" y="427"/>
                </a:lnTo>
                <a:lnTo>
                  <a:pt x="480" y="426"/>
                </a:lnTo>
                <a:lnTo>
                  <a:pt x="474" y="426"/>
                </a:lnTo>
                <a:lnTo>
                  <a:pt x="467" y="424"/>
                </a:lnTo>
                <a:lnTo>
                  <a:pt x="461" y="423"/>
                </a:lnTo>
                <a:lnTo>
                  <a:pt x="454" y="420"/>
                </a:lnTo>
                <a:lnTo>
                  <a:pt x="448" y="417"/>
                </a:lnTo>
                <a:lnTo>
                  <a:pt x="441" y="414"/>
                </a:lnTo>
                <a:lnTo>
                  <a:pt x="434" y="411"/>
                </a:lnTo>
                <a:lnTo>
                  <a:pt x="426" y="407"/>
                </a:lnTo>
                <a:lnTo>
                  <a:pt x="419" y="403"/>
                </a:lnTo>
                <a:lnTo>
                  <a:pt x="411" y="398"/>
                </a:lnTo>
                <a:lnTo>
                  <a:pt x="403" y="394"/>
                </a:lnTo>
                <a:lnTo>
                  <a:pt x="395" y="388"/>
                </a:lnTo>
                <a:lnTo>
                  <a:pt x="386" y="383"/>
                </a:lnTo>
                <a:lnTo>
                  <a:pt x="379" y="377"/>
                </a:lnTo>
                <a:lnTo>
                  <a:pt x="369" y="370"/>
                </a:lnTo>
                <a:lnTo>
                  <a:pt x="360" y="364"/>
                </a:lnTo>
                <a:lnTo>
                  <a:pt x="352" y="357"/>
                </a:lnTo>
                <a:lnTo>
                  <a:pt x="342" y="349"/>
                </a:lnTo>
                <a:lnTo>
                  <a:pt x="321" y="332"/>
                </a:lnTo>
                <a:lnTo>
                  <a:pt x="301" y="315"/>
                </a:lnTo>
                <a:lnTo>
                  <a:pt x="278" y="296"/>
                </a:lnTo>
                <a:lnTo>
                  <a:pt x="255" y="276"/>
                </a:lnTo>
                <a:lnTo>
                  <a:pt x="231" y="254"/>
                </a:lnTo>
                <a:lnTo>
                  <a:pt x="205" y="231"/>
                </a:lnTo>
                <a:lnTo>
                  <a:pt x="192" y="220"/>
                </a:lnTo>
                <a:lnTo>
                  <a:pt x="179" y="208"/>
                </a:lnTo>
                <a:lnTo>
                  <a:pt x="167" y="198"/>
                </a:lnTo>
                <a:lnTo>
                  <a:pt x="156" y="187"/>
                </a:lnTo>
                <a:lnTo>
                  <a:pt x="144" y="177"/>
                </a:lnTo>
                <a:lnTo>
                  <a:pt x="133" y="168"/>
                </a:lnTo>
                <a:lnTo>
                  <a:pt x="123" y="158"/>
                </a:lnTo>
                <a:lnTo>
                  <a:pt x="113" y="149"/>
                </a:lnTo>
                <a:lnTo>
                  <a:pt x="104" y="141"/>
                </a:lnTo>
                <a:lnTo>
                  <a:pt x="94" y="134"/>
                </a:lnTo>
                <a:lnTo>
                  <a:pt x="85" y="126"/>
                </a:lnTo>
                <a:lnTo>
                  <a:pt x="78" y="118"/>
                </a:lnTo>
                <a:lnTo>
                  <a:pt x="69" y="112"/>
                </a:lnTo>
                <a:lnTo>
                  <a:pt x="62" y="105"/>
                </a:lnTo>
                <a:lnTo>
                  <a:pt x="56" y="99"/>
                </a:lnTo>
                <a:lnTo>
                  <a:pt x="49" y="92"/>
                </a:lnTo>
                <a:lnTo>
                  <a:pt x="44" y="87"/>
                </a:lnTo>
                <a:lnTo>
                  <a:pt x="38" y="82"/>
                </a:lnTo>
                <a:lnTo>
                  <a:pt x="32" y="76"/>
                </a:lnTo>
                <a:lnTo>
                  <a:pt x="28" y="72"/>
                </a:lnTo>
                <a:lnTo>
                  <a:pt x="23" y="67"/>
                </a:lnTo>
                <a:lnTo>
                  <a:pt x="19" y="63"/>
                </a:lnTo>
                <a:lnTo>
                  <a:pt x="16" y="59"/>
                </a:lnTo>
                <a:lnTo>
                  <a:pt x="12" y="56"/>
                </a:lnTo>
                <a:lnTo>
                  <a:pt x="9" y="51"/>
                </a:lnTo>
                <a:lnTo>
                  <a:pt x="8" y="49"/>
                </a:lnTo>
                <a:lnTo>
                  <a:pt x="5" y="46"/>
                </a:lnTo>
                <a:lnTo>
                  <a:pt x="3" y="43"/>
                </a:lnTo>
                <a:lnTo>
                  <a:pt x="2" y="41"/>
                </a:lnTo>
                <a:lnTo>
                  <a:pt x="2" y="39"/>
                </a:lnTo>
                <a:lnTo>
                  <a:pt x="0" y="37"/>
                </a:lnTo>
                <a:lnTo>
                  <a:pt x="0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3"/>
          <p:cNvSpPr/>
          <p:nvPr/>
        </p:nvSpPr>
        <p:spPr>
          <a:xfrm>
            <a:off x="5632560" y="3062160"/>
            <a:ext cx="1247760" cy="255600"/>
          </a:xfrm>
          <a:custGeom>
            <a:avLst/>
            <a:gdLst/>
            <a:ahLst/>
            <a:rect l="l" t="t" r="r" b="b"/>
            <a:pathLst>
              <a:path w="2358" h="482">
                <a:moveTo>
                  <a:pt x="7" y="285"/>
                </a:moveTo>
                <a:lnTo>
                  <a:pt x="10" y="285"/>
                </a:lnTo>
                <a:lnTo>
                  <a:pt x="15" y="285"/>
                </a:lnTo>
                <a:lnTo>
                  <a:pt x="21" y="285"/>
                </a:lnTo>
                <a:lnTo>
                  <a:pt x="27" y="284"/>
                </a:lnTo>
                <a:lnTo>
                  <a:pt x="34" y="284"/>
                </a:lnTo>
                <a:lnTo>
                  <a:pt x="41" y="284"/>
                </a:lnTo>
                <a:lnTo>
                  <a:pt x="50" y="282"/>
                </a:lnTo>
                <a:lnTo>
                  <a:pt x="60" y="282"/>
                </a:lnTo>
                <a:lnTo>
                  <a:pt x="69" y="281"/>
                </a:lnTo>
                <a:lnTo>
                  <a:pt x="80" y="279"/>
                </a:lnTo>
                <a:lnTo>
                  <a:pt x="90" y="279"/>
                </a:lnTo>
                <a:lnTo>
                  <a:pt x="103" y="278"/>
                </a:lnTo>
                <a:lnTo>
                  <a:pt x="115" y="277"/>
                </a:lnTo>
                <a:lnTo>
                  <a:pt x="129" y="275"/>
                </a:lnTo>
                <a:lnTo>
                  <a:pt x="142" y="274"/>
                </a:lnTo>
                <a:lnTo>
                  <a:pt x="156" y="272"/>
                </a:lnTo>
                <a:lnTo>
                  <a:pt x="172" y="271"/>
                </a:lnTo>
                <a:lnTo>
                  <a:pt x="188" y="268"/>
                </a:lnTo>
                <a:lnTo>
                  <a:pt x="204" y="267"/>
                </a:lnTo>
                <a:lnTo>
                  <a:pt x="221" y="265"/>
                </a:lnTo>
                <a:lnTo>
                  <a:pt x="239" y="262"/>
                </a:lnTo>
                <a:lnTo>
                  <a:pt x="257" y="261"/>
                </a:lnTo>
                <a:lnTo>
                  <a:pt x="277" y="258"/>
                </a:lnTo>
                <a:lnTo>
                  <a:pt x="296" y="255"/>
                </a:lnTo>
                <a:lnTo>
                  <a:pt x="316" y="254"/>
                </a:lnTo>
                <a:lnTo>
                  <a:pt x="338" y="251"/>
                </a:lnTo>
                <a:lnTo>
                  <a:pt x="359" y="248"/>
                </a:lnTo>
                <a:lnTo>
                  <a:pt x="381" y="245"/>
                </a:lnTo>
                <a:lnTo>
                  <a:pt x="404" y="242"/>
                </a:lnTo>
                <a:lnTo>
                  <a:pt x="427" y="239"/>
                </a:lnTo>
                <a:lnTo>
                  <a:pt x="452" y="235"/>
                </a:lnTo>
                <a:lnTo>
                  <a:pt x="476" y="232"/>
                </a:lnTo>
                <a:lnTo>
                  <a:pt x="501" y="231"/>
                </a:lnTo>
                <a:lnTo>
                  <a:pt x="526" y="228"/>
                </a:lnTo>
                <a:lnTo>
                  <a:pt x="578" y="223"/>
                </a:lnTo>
                <a:lnTo>
                  <a:pt x="632" y="218"/>
                </a:lnTo>
                <a:lnTo>
                  <a:pt x="686" y="212"/>
                </a:lnTo>
                <a:lnTo>
                  <a:pt x="742" y="205"/>
                </a:lnTo>
                <a:lnTo>
                  <a:pt x="800" y="197"/>
                </a:lnTo>
                <a:lnTo>
                  <a:pt x="859" y="190"/>
                </a:lnTo>
                <a:lnTo>
                  <a:pt x="918" y="182"/>
                </a:lnTo>
                <a:lnTo>
                  <a:pt x="980" y="172"/>
                </a:lnTo>
                <a:lnTo>
                  <a:pt x="1042" y="161"/>
                </a:lnTo>
                <a:lnTo>
                  <a:pt x="1105" y="151"/>
                </a:lnTo>
                <a:lnTo>
                  <a:pt x="1169" y="140"/>
                </a:lnTo>
                <a:lnTo>
                  <a:pt x="1235" y="128"/>
                </a:lnTo>
                <a:lnTo>
                  <a:pt x="1301" y="115"/>
                </a:lnTo>
                <a:lnTo>
                  <a:pt x="1369" y="102"/>
                </a:lnTo>
                <a:lnTo>
                  <a:pt x="1438" y="89"/>
                </a:lnTo>
                <a:lnTo>
                  <a:pt x="1471" y="84"/>
                </a:lnTo>
                <a:lnTo>
                  <a:pt x="1504" y="79"/>
                </a:lnTo>
                <a:lnTo>
                  <a:pt x="1537" y="75"/>
                </a:lnTo>
                <a:lnTo>
                  <a:pt x="1569" y="69"/>
                </a:lnTo>
                <a:lnTo>
                  <a:pt x="1599" y="65"/>
                </a:lnTo>
                <a:lnTo>
                  <a:pt x="1629" y="61"/>
                </a:lnTo>
                <a:lnTo>
                  <a:pt x="1658" y="56"/>
                </a:lnTo>
                <a:lnTo>
                  <a:pt x="1685" y="52"/>
                </a:lnTo>
                <a:lnTo>
                  <a:pt x="1713" y="49"/>
                </a:lnTo>
                <a:lnTo>
                  <a:pt x="1740" y="45"/>
                </a:lnTo>
                <a:lnTo>
                  <a:pt x="1764" y="40"/>
                </a:lnTo>
                <a:lnTo>
                  <a:pt x="1789" y="38"/>
                </a:lnTo>
                <a:lnTo>
                  <a:pt x="1813" y="33"/>
                </a:lnTo>
                <a:lnTo>
                  <a:pt x="1836" y="30"/>
                </a:lnTo>
                <a:lnTo>
                  <a:pt x="1858" y="28"/>
                </a:lnTo>
                <a:lnTo>
                  <a:pt x="1880" y="25"/>
                </a:lnTo>
                <a:lnTo>
                  <a:pt x="1900" y="22"/>
                </a:lnTo>
                <a:lnTo>
                  <a:pt x="1919" y="19"/>
                </a:lnTo>
                <a:lnTo>
                  <a:pt x="1937" y="16"/>
                </a:lnTo>
                <a:lnTo>
                  <a:pt x="1955" y="15"/>
                </a:lnTo>
                <a:lnTo>
                  <a:pt x="1970" y="12"/>
                </a:lnTo>
                <a:lnTo>
                  <a:pt x="1986" y="10"/>
                </a:lnTo>
                <a:lnTo>
                  <a:pt x="2001" y="7"/>
                </a:lnTo>
                <a:lnTo>
                  <a:pt x="2015" y="6"/>
                </a:lnTo>
                <a:lnTo>
                  <a:pt x="2028" y="5"/>
                </a:lnTo>
                <a:lnTo>
                  <a:pt x="2039" y="3"/>
                </a:lnTo>
                <a:lnTo>
                  <a:pt x="2051" y="3"/>
                </a:lnTo>
                <a:lnTo>
                  <a:pt x="2061" y="2"/>
                </a:lnTo>
                <a:lnTo>
                  <a:pt x="2070" y="2"/>
                </a:lnTo>
                <a:lnTo>
                  <a:pt x="2078" y="0"/>
                </a:lnTo>
                <a:lnTo>
                  <a:pt x="2086" y="0"/>
                </a:lnTo>
                <a:lnTo>
                  <a:pt x="2091" y="0"/>
                </a:lnTo>
                <a:lnTo>
                  <a:pt x="2114" y="0"/>
                </a:lnTo>
                <a:lnTo>
                  <a:pt x="2137" y="0"/>
                </a:lnTo>
                <a:lnTo>
                  <a:pt x="2160" y="2"/>
                </a:lnTo>
                <a:lnTo>
                  <a:pt x="2183" y="2"/>
                </a:lnTo>
                <a:lnTo>
                  <a:pt x="2206" y="5"/>
                </a:lnTo>
                <a:lnTo>
                  <a:pt x="2229" y="7"/>
                </a:lnTo>
                <a:lnTo>
                  <a:pt x="2241" y="9"/>
                </a:lnTo>
                <a:lnTo>
                  <a:pt x="2253" y="12"/>
                </a:lnTo>
                <a:lnTo>
                  <a:pt x="2264" y="15"/>
                </a:lnTo>
                <a:lnTo>
                  <a:pt x="2276" y="17"/>
                </a:lnTo>
                <a:lnTo>
                  <a:pt x="2286" y="22"/>
                </a:lnTo>
                <a:lnTo>
                  <a:pt x="2296" y="25"/>
                </a:lnTo>
                <a:lnTo>
                  <a:pt x="2306" y="29"/>
                </a:lnTo>
                <a:lnTo>
                  <a:pt x="2313" y="35"/>
                </a:lnTo>
                <a:lnTo>
                  <a:pt x="2322" y="39"/>
                </a:lnTo>
                <a:lnTo>
                  <a:pt x="2327" y="43"/>
                </a:lnTo>
                <a:lnTo>
                  <a:pt x="2333" y="49"/>
                </a:lnTo>
                <a:lnTo>
                  <a:pt x="2339" y="53"/>
                </a:lnTo>
                <a:lnTo>
                  <a:pt x="2343" y="59"/>
                </a:lnTo>
                <a:lnTo>
                  <a:pt x="2348" y="64"/>
                </a:lnTo>
                <a:lnTo>
                  <a:pt x="2350" y="69"/>
                </a:lnTo>
                <a:lnTo>
                  <a:pt x="2353" y="74"/>
                </a:lnTo>
                <a:lnTo>
                  <a:pt x="2355" y="78"/>
                </a:lnTo>
                <a:lnTo>
                  <a:pt x="2356" y="82"/>
                </a:lnTo>
                <a:lnTo>
                  <a:pt x="2356" y="87"/>
                </a:lnTo>
                <a:lnTo>
                  <a:pt x="2358" y="89"/>
                </a:lnTo>
                <a:lnTo>
                  <a:pt x="2356" y="95"/>
                </a:lnTo>
                <a:lnTo>
                  <a:pt x="2356" y="102"/>
                </a:lnTo>
                <a:lnTo>
                  <a:pt x="2355" y="108"/>
                </a:lnTo>
                <a:lnTo>
                  <a:pt x="2353" y="112"/>
                </a:lnTo>
                <a:lnTo>
                  <a:pt x="2350" y="118"/>
                </a:lnTo>
                <a:lnTo>
                  <a:pt x="2348" y="123"/>
                </a:lnTo>
                <a:lnTo>
                  <a:pt x="2343" y="127"/>
                </a:lnTo>
                <a:lnTo>
                  <a:pt x="2339" y="131"/>
                </a:lnTo>
                <a:lnTo>
                  <a:pt x="2333" y="136"/>
                </a:lnTo>
                <a:lnTo>
                  <a:pt x="2327" y="140"/>
                </a:lnTo>
                <a:lnTo>
                  <a:pt x="2322" y="143"/>
                </a:lnTo>
                <a:lnTo>
                  <a:pt x="2313" y="147"/>
                </a:lnTo>
                <a:lnTo>
                  <a:pt x="2306" y="150"/>
                </a:lnTo>
                <a:lnTo>
                  <a:pt x="2296" y="154"/>
                </a:lnTo>
                <a:lnTo>
                  <a:pt x="2286" y="157"/>
                </a:lnTo>
                <a:lnTo>
                  <a:pt x="2276" y="161"/>
                </a:lnTo>
                <a:lnTo>
                  <a:pt x="2264" y="164"/>
                </a:lnTo>
                <a:lnTo>
                  <a:pt x="2254" y="167"/>
                </a:lnTo>
                <a:lnTo>
                  <a:pt x="2244" y="170"/>
                </a:lnTo>
                <a:lnTo>
                  <a:pt x="2237" y="174"/>
                </a:lnTo>
                <a:lnTo>
                  <a:pt x="2228" y="177"/>
                </a:lnTo>
                <a:lnTo>
                  <a:pt x="2221" y="180"/>
                </a:lnTo>
                <a:lnTo>
                  <a:pt x="2215" y="183"/>
                </a:lnTo>
                <a:lnTo>
                  <a:pt x="2209" y="184"/>
                </a:lnTo>
                <a:lnTo>
                  <a:pt x="2204" y="187"/>
                </a:lnTo>
                <a:lnTo>
                  <a:pt x="2198" y="190"/>
                </a:lnTo>
                <a:lnTo>
                  <a:pt x="2189" y="193"/>
                </a:lnTo>
                <a:lnTo>
                  <a:pt x="2181" y="195"/>
                </a:lnTo>
                <a:lnTo>
                  <a:pt x="2176" y="196"/>
                </a:lnTo>
                <a:lnTo>
                  <a:pt x="2173" y="196"/>
                </a:lnTo>
                <a:lnTo>
                  <a:pt x="2170" y="196"/>
                </a:lnTo>
                <a:lnTo>
                  <a:pt x="2168" y="196"/>
                </a:lnTo>
                <a:lnTo>
                  <a:pt x="2165" y="196"/>
                </a:lnTo>
                <a:lnTo>
                  <a:pt x="2160" y="197"/>
                </a:lnTo>
                <a:lnTo>
                  <a:pt x="2156" y="197"/>
                </a:lnTo>
                <a:lnTo>
                  <a:pt x="2150" y="197"/>
                </a:lnTo>
                <a:lnTo>
                  <a:pt x="2145" y="199"/>
                </a:lnTo>
                <a:lnTo>
                  <a:pt x="2137" y="199"/>
                </a:lnTo>
                <a:lnTo>
                  <a:pt x="2130" y="200"/>
                </a:lnTo>
                <a:lnTo>
                  <a:pt x="2123" y="200"/>
                </a:lnTo>
                <a:lnTo>
                  <a:pt x="2114" y="202"/>
                </a:lnTo>
                <a:lnTo>
                  <a:pt x="2104" y="203"/>
                </a:lnTo>
                <a:lnTo>
                  <a:pt x="2094" y="203"/>
                </a:lnTo>
                <a:lnTo>
                  <a:pt x="2084" y="205"/>
                </a:lnTo>
                <a:lnTo>
                  <a:pt x="2073" y="206"/>
                </a:lnTo>
                <a:lnTo>
                  <a:pt x="2061" y="207"/>
                </a:lnTo>
                <a:lnTo>
                  <a:pt x="2048" y="209"/>
                </a:lnTo>
                <a:lnTo>
                  <a:pt x="2034" y="209"/>
                </a:lnTo>
                <a:lnTo>
                  <a:pt x="2019" y="210"/>
                </a:lnTo>
                <a:lnTo>
                  <a:pt x="2005" y="212"/>
                </a:lnTo>
                <a:lnTo>
                  <a:pt x="1989" y="213"/>
                </a:lnTo>
                <a:lnTo>
                  <a:pt x="1973" y="215"/>
                </a:lnTo>
                <a:lnTo>
                  <a:pt x="1956" y="218"/>
                </a:lnTo>
                <a:lnTo>
                  <a:pt x="1937" y="219"/>
                </a:lnTo>
                <a:lnTo>
                  <a:pt x="1919" y="220"/>
                </a:lnTo>
                <a:lnTo>
                  <a:pt x="1898" y="222"/>
                </a:lnTo>
                <a:lnTo>
                  <a:pt x="1878" y="223"/>
                </a:lnTo>
                <a:lnTo>
                  <a:pt x="1857" y="225"/>
                </a:lnTo>
                <a:lnTo>
                  <a:pt x="1835" y="226"/>
                </a:lnTo>
                <a:lnTo>
                  <a:pt x="1812" y="229"/>
                </a:lnTo>
                <a:lnTo>
                  <a:pt x="1789" y="231"/>
                </a:lnTo>
                <a:lnTo>
                  <a:pt x="1764" y="232"/>
                </a:lnTo>
                <a:lnTo>
                  <a:pt x="1714" y="239"/>
                </a:lnTo>
                <a:lnTo>
                  <a:pt x="1664" y="246"/>
                </a:lnTo>
                <a:lnTo>
                  <a:pt x="1612" y="254"/>
                </a:lnTo>
                <a:lnTo>
                  <a:pt x="1560" y="262"/>
                </a:lnTo>
                <a:lnTo>
                  <a:pt x="1507" y="269"/>
                </a:lnTo>
                <a:lnTo>
                  <a:pt x="1454" y="278"/>
                </a:lnTo>
                <a:lnTo>
                  <a:pt x="1400" y="287"/>
                </a:lnTo>
                <a:lnTo>
                  <a:pt x="1344" y="297"/>
                </a:lnTo>
                <a:lnTo>
                  <a:pt x="1289" y="305"/>
                </a:lnTo>
                <a:lnTo>
                  <a:pt x="1232" y="315"/>
                </a:lnTo>
                <a:lnTo>
                  <a:pt x="1173" y="324"/>
                </a:lnTo>
                <a:lnTo>
                  <a:pt x="1114" y="334"/>
                </a:lnTo>
                <a:lnTo>
                  <a:pt x="1053" y="344"/>
                </a:lnTo>
                <a:lnTo>
                  <a:pt x="991" y="354"/>
                </a:lnTo>
                <a:lnTo>
                  <a:pt x="930" y="364"/>
                </a:lnTo>
                <a:lnTo>
                  <a:pt x="865" y="374"/>
                </a:lnTo>
                <a:lnTo>
                  <a:pt x="833" y="382"/>
                </a:lnTo>
                <a:lnTo>
                  <a:pt x="801" y="387"/>
                </a:lnTo>
                <a:lnTo>
                  <a:pt x="771" y="395"/>
                </a:lnTo>
                <a:lnTo>
                  <a:pt x="742" y="400"/>
                </a:lnTo>
                <a:lnTo>
                  <a:pt x="714" y="406"/>
                </a:lnTo>
                <a:lnTo>
                  <a:pt x="686" y="412"/>
                </a:lnTo>
                <a:lnTo>
                  <a:pt x="660" y="416"/>
                </a:lnTo>
                <a:lnTo>
                  <a:pt x="634" y="422"/>
                </a:lnTo>
                <a:lnTo>
                  <a:pt x="610" y="426"/>
                </a:lnTo>
                <a:lnTo>
                  <a:pt x="585" y="432"/>
                </a:lnTo>
                <a:lnTo>
                  <a:pt x="564" y="436"/>
                </a:lnTo>
                <a:lnTo>
                  <a:pt x="542" y="441"/>
                </a:lnTo>
                <a:lnTo>
                  <a:pt x="521" y="445"/>
                </a:lnTo>
                <a:lnTo>
                  <a:pt x="501" y="448"/>
                </a:lnTo>
                <a:lnTo>
                  <a:pt x="482" y="452"/>
                </a:lnTo>
                <a:lnTo>
                  <a:pt x="463" y="455"/>
                </a:lnTo>
                <a:lnTo>
                  <a:pt x="446" y="458"/>
                </a:lnTo>
                <a:lnTo>
                  <a:pt x="430" y="462"/>
                </a:lnTo>
                <a:lnTo>
                  <a:pt x="414" y="464"/>
                </a:lnTo>
                <a:lnTo>
                  <a:pt x="400" y="467"/>
                </a:lnTo>
                <a:lnTo>
                  <a:pt x="385" y="470"/>
                </a:lnTo>
                <a:lnTo>
                  <a:pt x="372" y="471"/>
                </a:lnTo>
                <a:lnTo>
                  <a:pt x="361" y="474"/>
                </a:lnTo>
                <a:lnTo>
                  <a:pt x="349" y="475"/>
                </a:lnTo>
                <a:lnTo>
                  <a:pt x="339" y="477"/>
                </a:lnTo>
                <a:lnTo>
                  <a:pt x="331" y="478"/>
                </a:lnTo>
                <a:lnTo>
                  <a:pt x="322" y="480"/>
                </a:lnTo>
                <a:lnTo>
                  <a:pt x="315" y="480"/>
                </a:lnTo>
                <a:lnTo>
                  <a:pt x="308" y="481"/>
                </a:lnTo>
                <a:lnTo>
                  <a:pt x="302" y="481"/>
                </a:lnTo>
                <a:lnTo>
                  <a:pt x="296" y="481"/>
                </a:lnTo>
                <a:lnTo>
                  <a:pt x="293" y="482"/>
                </a:lnTo>
                <a:lnTo>
                  <a:pt x="285" y="481"/>
                </a:lnTo>
                <a:lnTo>
                  <a:pt x="276" y="480"/>
                </a:lnTo>
                <a:lnTo>
                  <a:pt x="267" y="478"/>
                </a:lnTo>
                <a:lnTo>
                  <a:pt x="257" y="475"/>
                </a:lnTo>
                <a:lnTo>
                  <a:pt x="249" y="471"/>
                </a:lnTo>
                <a:lnTo>
                  <a:pt x="237" y="467"/>
                </a:lnTo>
                <a:lnTo>
                  <a:pt x="227" y="461"/>
                </a:lnTo>
                <a:lnTo>
                  <a:pt x="216" y="455"/>
                </a:lnTo>
                <a:lnTo>
                  <a:pt x="204" y="448"/>
                </a:lnTo>
                <a:lnTo>
                  <a:pt x="191" y="441"/>
                </a:lnTo>
                <a:lnTo>
                  <a:pt x="180" y="431"/>
                </a:lnTo>
                <a:lnTo>
                  <a:pt x="165" y="422"/>
                </a:lnTo>
                <a:lnTo>
                  <a:pt x="152" y="410"/>
                </a:lnTo>
                <a:lnTo>
                  <a:pt x="138" y="400"/>
                </a:lnTo>
                <a:lnTo>
                  <a:pt x="123" y="387"/>
                </a:lnTo>
                <a:lnTo>
                  <a:pt x="109" y="374"/>
                </a:lnTo>
                <a:lnTo>
                  <a:pt x="99" y="369"/>
                </a:lnTo>
                <a:lnTo>
                  <a:pt x="90" y="364"/>
                </a:lnTo>
                <a:lnTo>
                  <a:pt x="82" y="360"/>
                </a:lnTo>
                <a:lnTo>
                  <a:pt x="74" y="354"/>
                </a:lnTo>
                <a:lnTo>
                  <a:pt x="66" y="350"/>
                </a:lnTo>
                <a:lnTo>
                  <a:pt x="60" y="346"/>
                </a:lnTo>
                <a:lnTo>
                  <a:pt x="53" y="341"/>
                </a:lnTo>
                <a:lnTo>
                  <a:pt x="47" y="337"/>
                </a:lnTo>
                <a:lnTo>
                  <a:pt x="41" y="334"/>
                </a:lnTo>
                <a:lnTo>
                  <a:pt x="36" y="330"/>
                </a:lnTo>
                <a:lnTo>
                  <a:pt x="31" y="326"/>
                </a:lnTo>
                <a:lnTo>
                  <a:pt x="25" y="323"/>
                </a:lnTo>
                <a:lnTo>
                  <a:pt x="21" y="318"/>
                </a:lnTo>
                <a:lnTo>
                  <a:pt x="18" y="315"/>
                </a:lnTo>
                <a:lnTo>
                  <a:pt x="14" y="313"/>
                </a:lnTo>
                <a:lnTo>
                  <a:pt x="11" y="310"/>
                </a:lnTo>
                <a:lnTo>
                  <a:pt x="7" y="304"/>
                </a:lnTo>
                <a:lnTo>
                  <a:pt x="2" y="300"/>
                </a:lnTo>
                <a:lnTo>
                  <a:pt x="1" y="295"/>
                </a:lnTo>
                <a:lnTo>
                  <a:pt x="0" y="291"/>
                </a:lnTo>
                <a:lnTo>
                  <a:pt x="0" y="288"/>
                </a:lnTo>
                <a:lnTo>
                  <a:pt x="1" y="287"/>
                </a:lnTo>
                <a:lnTo>
                  <a:pt x="2" y="285"/>
                </a:lnTo>
                <a:lnTo>
                  <a:pt x="7" y="2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84"/>
          <p:cNvSpPr/>
          <p:nvPr/>
        </p:nvSpPr>
        <p:spPr>
          <a:xfrm>
            <a:off x="5788080" y="3760920"/>
            <a:ext cx="950760" cy="349200"/>
          </a:xfrm>
          <a:custGeom>
            <a:avLst/>
            <a:gdLst/>
            <a:ahLst/>
            <a:rect l="l" t="t" r="r" b="b"/>
            <a:pathLst>
              <a:path w="1798" h="660">
                <a:moveTo>
                  <a:pt x="1307" y="36"/>
                </a:moveTo>
                <a:lnTo>
                  <a:pt x="1330" y="29"/>
                </a:lnTo>
                <a:lnTo>
                  <a:pt x="1353" y="22"/>
                </a:lnTo>
                <a:lnTo>
                  <a:pt x="1375" y="16"/>
                </a:lnTo>
                <a:lnTo>
                  <a:pt x="1397" y="10"/>
                </a:lnTo>
                <a:lnTo>
                  <a:pt x="1418" y="6"/>
                </a:lnTo>
                <a:lnTo>
                  <a:pt x="1427" y="5"/>
                </a:lnTo>
                <a:lnTo>
                  <a:pt x="1437" y="3"/>
                </a:lnTo>
                <a:lnTo>
                  <a:pt x="1446" y="2"/>
                </a:lnTo>
                <a:lnTo>
                  <a:pt x="1454" y="0"/>
                </a:lnTo>
                <a:lnTo>
                  <a:pt x="1463" y="0"/>
                </a:lnTo>
                <a:lnTo>
                  <a:pt x="1471" y="0"/>
                </a:lnTo>
                <a:lnTo>
                  <a:pt x="1479" y="3"/>
                </a:lnTo>
                <a:lnTo>
                  <a:pt x="1487" y="8"/>
                </a:lnTo>
                <a:lnTo>
                  <a:pt x="1496" y="12"/>
                </a:lnTo>
                <a:lnTo>
                  <a:pt x="1506" y="16"/>
                </a:lnTo>
                <a:lnTo>
                  <a:pt x="1516" y="22"/>
                </a:lnTo>
                <a:lnTo>
                  <a:pt x="1526" y="28"/>
                </a:lnTo>
                <a:lnTo>
                  <a:pt x="1538" y="33"/>
                </a:lnTo>
                <a:lnTo>
                  <a:pt x="1551" y="39"/>
                </a:lnTo>
                <a:lnTo>
                  <a:pt x="1564" y="46"/>
                </a:lnTo>
                <a:lnTo>
                  <a:pt x="1577" y="54"/>
                </a:lnTo>
                <a:lnTo>
                  <a:pt x="1591" y="61"/>
                </a:lnTo>
                <a:lnTo>
                  <a:pt x="1607" y="69"/>
                </a:lnTo>
                <a:lnTo>
                  <a:pt x="1623" y="78"/>
                </a:lnTo>
                <a:lnTo>
                  <a:pt x="1638" y="87"/>
                </a:lnTo>
                <a:lnTo>
                  <a:pt x="1657" y="97"/>
                </a:lnTo>
                <a:lnTo>
                  <a:pt x="1676" y="107"/>
                </a:lnTo>
                <a:lnTo>
                  <a:pt x="1690" y="120"/>
                </a:lnTo>
                <a:lnTo>
                  <a:pt x="1703" y="133"/>
                </a:lnTo>
                <a:lnTo>
                  <a:pt x="1716" y="146"/>
                </a:lnTo>
                <a:lnTo>
                  <a:pt x="1729" y="157"/>
                </a:lnTo>
                <a:lnTo>
                  <a:pt x="1739" y="169"/>
                </a:lnTo>
                <a:lnTo>
                  <a:pt x="1749" y="179"/>
                </a:lnTo>
                <a:lnTo>
                  <a:pt x="1759" y="189"/>
                </a:lnTo>
                <a:lnTo>
                  <a:pt x="1767" y="199"/>
                </a:lnTo>
                <a:lnTo>
                  <a:pt x="1774" y="208"/>
                </a:lnTo>
                <a:lnTo>
                  <a:pt x="1781" y="215"/>
                </a:lnTo>
                <a:lnTo>
                  <a:pt x="1787" y="223"/>
                </a:lnTo>
                <a:lnTo>
                  <a:pt x="1791" y="229"/>
                </a:lnTo>
                <a:lnTo>
                  <a:pt x="1794" y="236"/>
                </a:lnTo>
                <a:lnTo>
                  <a:pt x="1797" y="241"/>
                </a:lnTo>
                <a:lnTo>
                  <a:pt x="1798" y="245"/>
                </a:lnTo>
                <a:lnTo>
                  <a:pt x="1798" y="249"/>
                </a:lnTo>
                <a:lnTo>
                  <a:pt x="1798" y="252"/>
                </a:lnTo>
                <a:lnTo>
                  <a:pt x="1797" y="257"/>
                </a:lnTo>
                <a:lnTo>
                  <a:pt x="1794" y="259"/>
                </a:lnTo>
                <a:lnTo>
                  <a:pt x="1791" y="262"/>
                </a:lnTo>
                <a:lnTo>
                  <a:pt x="1787" y="267"/>
                </a:lnTo>
                <a:lnTo>
                  <a:pt x="1781" y="270"/>
                </a:lnTo>
                <a:lnTo>
                  <a:pt x="1775" y="272"/>
                </a:lnTo>
                <a:lnTo>
                  <a:pt x="1768" y="277"/>
                </a:lnTo>
                <a:lnTo>
                  <a:pt x="1759" y="280"/>
                </a:lnTo>
                <a:lnTo>
                  <a:pt x="1751" y="282"/>
                </a:lnTo>
                <a:lnTo>
                  <a:pt x="1741" y="285"/>
                </a:lnTo>
                <a:lnTo>
                  <a:pt x="1729" y="290"/>
                </a:lnTo>
                <a:lnTo>
                  <a:pt x="1718" y="293"/>
                </a:lnTo>
                <a:lnTo>
                  <a:pt x="1705" y="295"/>
                </a:lnTo>
                <a:lnTo>
                  <a:pt x="1690" y="300"/>
                </a:lnTo>
                <a:lnTo>
                  <a:pt x="1676" y="303"/>
                </a:lnTo>
                <a:lnTo>
                  <a:pt x="1666" y="304"/>
                </a:lnTo>
                <a:lnTo>
                  <a:pt x="1656" y="307"/>
                </a:lnTo>
                <a:lnTo>
                  <a:pt x="1644" y="311"/>
                </a:lnTo>
                <a:lnTo>
                  <a:pt x="1633" y="314"/>
                </a:lnTo>
                <a:lnTo>
                  <a:pt x="1621" y="318"/>
                </a:lnTo>
                <a:lnTo>
                  <a:pt x="1608" y="324"/>
                </a:lnTo>
                <a:lnTo>
                  <a:pt x="1597" y="330"/>
                </a:lnTo>
                <a:lnTo>
                  <a:pt x="1582" y="336"/>
                </a:lnTo>
                <a:lnTo>
                  <a:pt x="1569" y="343"/>
                </a:lnTo>
                <a:lnTo>
                  <a:pt x="1554" y="350"/>
                </a:lnTo>
                <a:lnTo>
                  <a:pt x="1539" y="357"/>
                </a:lnTo>
                <a:lnTo>
                  <a:pt x="1523" y="366"/>
                </a:lnTo>
                <a:lnTo>
                  <a:pt x="1507" y="376"/>
                </a:lnTo>
                <a:lnTo>
                  <a:pt x="1490" y="386"/>
                </a:lnTo>
                <a:lnTo>
                  <a:pt x="1473" y="396"/>
                </a:lnTo>
                <a:lnTo>
                  <a:pt x="1456" y="406"/>
                </a:lnTo>
                <a:lnTo>
                  <a:pt x="1437" y="418"/>
                </a:lnTo>
                <a:lnTo>
                  <a:pt x="1417" y="431"/>
                </a:lnTo>
                <a:lnTo>
                  <a:pt x="1398" y="442"/>
                </a:lnTo>
                <a:lnTo>
                  <a:pt x="1378" y="457"/>
                </a:lnTo>
                <a:lnTo>
                  <a:pt x="1356" y="470"/>
                </a:lnTo>
                <a:lnTo>
                  <a:pt x="1335" y="484"/>
                </a:lnTo>
                <a:lnTo>
                  <a:pt x="1313" y="500"/>
                </a:lnTo>
                <a:lnTo>
                  <a:pt x="1290" y="514"/>
                </a:lnTo>
                <a:lnTo>
                  <a:pt x="1266" y="532"/>
                </a:lnTo>
                <a:lnTo>
                  <a:pt x="1241" y="547"/>
                </a:lnTo>
                <a:lnTo>
                  <a:pt x="1217" y="565"/>
                </a:lnTo>
                <a:lnTo>
                  <a:pt x="1192" y="583"/>
                </a:lnTo>
                <a:lnTo>
                  <a:pt x="1165" y="601"/>
                </a:lnTo>
                <a:lnTo>
                  <a:pt x="1139" y="619"/>
                </a:lnTo>
                <a:lnTo>
                  <a:pt x="1112" y="639"/>
                </a:lnTo>
                <a:lnTo>
                  <a:pt x="1083" y="660"/>
                </a:lnTo>
                <a:lnTo>
                  <a:pt x="1042" y="589"/>
                </a:lnTo>
                <a:lnTo>
                  <a:pt x="1063" y="565"/>
                </a:lnTo>
                <a:lnTo>
                  <a:pt x="1083" y="543"/>
                </a:lnTo>
                <a:lnTo>
                  <a:pt x="1102" y="520"/>
                </a:lnTo>
                <a:lnTo>
                  <a:pt x="1120" y="500"/>
                </a:lnTo>
                <a:lnTo>
                  <a:pt x="1138" y="478"/>
                </a:lnTo>
                <a:lnTo>
                  <a:pt x="1155" y="458"/>
                </a:lnTo>
                <a:lnTo>
                  <a:pt x="1171" y="439"/>
                </a:lnTo>
                <a:lnTo>
                  <a:pt x="1186" y="421"/>
                </a:lnTo>
                <a:lnTo>
                  <a:pt x="1201" y="402"/>
                </a:lnTo>
                <a:lnTo>
                  <a:pt x="1215" y="385"/>
                </a:lnTo>
                <a:lnTo>
                  <a:pt x="1230" y="369"/>
                </a:lnTo>
                <a:lnTo>
                  <a:pt x="1243" y="353"/>
                </a:lnTo>
                <a:lnTo>
                  <a:pt x="1254" y="337"/>
                </a:lnTo>
                <a:lnTo>
                  <a:pt x="1266" y="323"/>
                </a:lnTo>
                <a:lnTo>
                  <a:pt x="1276" y="308"/>
                </a:lnTo>
                <a:lnTo>
                  <a:pt x="1286" y="295"/>
                </a:lnTo>
                <a:lnTo>
                  <a:pt x="1296" y="282"/>
                </a:lnTo>
                <a:lnTo>
                  <a:pt x="1304" y="271"/>
                </a:lnTo>
                <a:lnTo>
                  <a:pt x="1312" y="259"/>
                </a:lnTo>
                <a:lnTo>
                  <a:pt x="1319" y="249"/>
                </a:lnTo>
                <a:lnTo>
                  <a:pt x="1325" y="239"/>
                </a:lnTo>
                <a:lnTo>
                  <a:pt x="1330" y="231"/>
                </a:lnTo>
                <a:lnTo>
                  <a:pt x="1336" y="222"/>
                </a:lnTo>
                <a:lnTo>
                  <a:pt x="1340" y="215"/>
                </a:lnTo>
                <a:lnTo>
                  <a:pt x="1343" y="208"/>
                </a:lnTo>
                <a:lnTo>
                  <a:pt x="1346" y="200"/>
                </a:lnTo>
                <a:lnTo>
                  <a:pt x="1349" y="196"/>
                </a:lnTo>
                <a:lnTo>
                  <a:pt x="1351" y="190"/>
                </a:lnTo>
                <a:lnTo>
                  <a:pt x="1351" y="186"/>
                </a:lnTo>
                <a:lnTo>
                  <a:pt x="1351" y="183"/>
                </a:lnTo>
                <a:lnTo>
                  <a:pt x="1351" y="180"/>
                </a:lnTo>
                <a:lnTo>
                  <a:pt x="1349" y="179"/>
                </a:lnTo>
                <a:lnTo>
                  <a:pt x="1346" y="176"/>
                </a:lnTo>
                <a:lnTo>
                  <a:pt x="1343" y="176"/>
                </a:lnTo>
                <a:lnTo>
                  <a:pt x="1339" y="174"/>
                </a:lnTo>
                <a:lnTo>
                  <a:pt x="1335" y="174"/>
                </a:lnTo>
                <a:lnTo>
                  <a:pt x="1329" y="174"/>
                </a:lnTo>
                <a:lnTo>
                  <a:pt x="1322" y="174"/>
                </a:lnTo>
                <a:lnTo>
                  <a:pt x="1315" y="176"/>
                </a:lnTo>
                <a:lnTo>
                  <a:pt x="1306" y="177"/>
                </a:lnTo>
                <a:lnTo>
                  <a:pt x="1297" y="179"/>
                </a:lnTo>
                <a:lnTo>
                  <a:pt x="1287" y="180"/>
                </a:lnTo>
                <a:lnTo>
                  <a:pt x="1277" y="183"/>
                </a:lnTo>
                <a:lnTo>
                  <a:pt x="1266" y="186"/>
                </a:lnTo>
                <a:lnTo>
                  <a:pt x="1253" y="189"/>
                </a:lnTo>
                <a:lnTo>
                  <a:pt x="1240" y="192"/>
                </a:lnTo>
                <a:lnTo>
                  <a:pt x="1225" y="196"/>
                </a:lnTo>
                <a:lnTo>
                  <a:pt x="1211" y="199"/>
                </a:lnTo>
                <a:lnTo>
                  <a:pt x="1195" y="203"/>
                </a:lnTo>
                <a:lnTo>
                  <a:pt x="1178" y="209"/>
                </a:lnTo>
                <a:lnTo>
                  <a:pt x="1161" y="213"/>
                </a:lnTo>
                <a:lnTo>
                  <a:pt x="1142" y="219"/>
                </a:lnTo>
                <a:lnTo>
                  <a:pt x="1123" y="223"/>
                </a:lnTo>
                <a:lnTo>
                  <a:pt x="1103" y="231"/>
                </a:lnTo>
                <a:lnTo>
                  <a:pt x="1083" y="236"/>
                </a:lnTo>
                <a:lnTo>
                  <a:pt x="1061" y="242"/>
                </a:lnTo>
                <a:lnTo>
                  <a:pt x="1038" y="249"/>
                </a:lnTo>
                <a:lnTo>
                  <a:pt x="1015" y="257"/>
                </a:lnTo>
                <a:lnTo>
                  <a:pt x="991" y="264"/>
                </a:lnTo>
                <a:lnTo>
                  <a:pt x="966" y="271"/>
                </a:lnTo>
                <a:lnTo>
                  <a:pt x="940" y="278"/>
                </a:lnTo>
                <a:lnTo>
                  <a:pt x="913" y="287"/>
                </a:lnTo>
                <a:lnTo>
                  <a:pt x="886" y="294"/>
                </a:lnTo>
                <a:lnTo>
                  <a:pt x="858" y="303"/>
                </a:lnTo>
                <a:lnTo>
                  <a:pt x="829" y="311"/>
                </a:lnTo>
                <a:lnTo>
                  <a:pt x="802" y="320"/>
                </a:lnTo>
                <a:lnTo>
                  <a:pt x="775" y="327"/>
                </a:lnTo>
                <a:lnTo>
                  <a:pt x="747" y="336"/>
                </a:lnTo>
                <a:lnTo>
                  <a:pt x="721" y="343"/>
                </a:lnTo>
                <a:lnTo>
                  <a:pt x="697" y="350"/>
                </a:lnTo>
                <a:lnTo>
                  <a:pt x="671" y="357"/>
                </a:lnTo>
                <a:lnTo>
                  <a:pt x="648" y="363"/>
                </a:lnTo>
                <a:lnTo>
                  <a:pt x="625" y="370"/>
                </a:lnTo>
                <a:lnTo>
                  <a:pt x="602" y="376"/>
                </a:lnTo>
                <a:lnTo>
                  <a:pt x="579" y="382"/>
                </a:lnTo>
                <a:lnTo>
                  <a:pt x="559" y="388"/>
                </a:lnTo>
                <a:lnTo>
                  <a:pt x="537" y="393"/>
                </a:lnTo>
                <a:lnTo>
                  <a:pt x="517" y="399"/>
                </a:lnTo>
                <a:lnTo>
                  <a:pt x="498" y="403"/>
                </a:lnTo>
                <a:lnTo>
                  <a:pt x="480" y="409"/>
                </a:lnTo>
                <a:lnTo>
                  <a:pt x="462" y="413"/>
                </a:lnTo>
                <a:lnTo>
                  <a:pt x="445" y="418"/>
                </a:lnTo>
                <a:lnTo>
                  <a:pt x="428" y="421"/>
                </a:lnTo>
                <a:lnTo>
                  <a:pt x="412" y="425"/>
                </a:lnTo>
                <a:lnTo>
                  <a:pt x="398" y="428"/>
                </a:lnTo>
                <a:lnTo>
                  <a:pt x="383" y="431"/>
                </a:lnTo>
                <a:lnTo>
                  <a:pt x="370" y="434"/>
                </a:lnTo>
                <a:lnTo>
                  <a:pt x="357" y="437"/>
                </a:lnTo>
                <a:lnTo>
                  <a:pt x="346" y="438"/>
                </a:lnTo>
                <a:lnTo>
                  <a:pt x="334" y="441"/>
                </a:lnTo>
                <a:lnTo>
                  <a:pt x="324" y="442"/>
                </a:lnTo>
                <a:lnTo>
                  <a:pt x="316" y="444"/>
                </a:lnTo>
                <a:lnTo>
                  <a:pt x="307" y="445"/>
                </a:lnTo>
                <a:lnTo>
                  <a:pt x="298" y="445"/>
                </a:lnTo>
                <a:lnTo>
                  <a:pt x="291" y="445"/>
                </a:lnTo>
                <a:lnTo>
                  <a:pt x="285" y="447"/>
                </a:lnTo>
                <a:lnTo>
                  <a:pt x="271" y="445"/>
                </a:lnTo>
                <a:lnTo>
                  <a:pt x="255" y="445"/>
                </a:lnTo>
                <a:lnTo>
                  <a:pt x="242" y="444"/>
                </a:lnTo>
                <a:lnTo>
                  <a:pt x="228" y="442"/>
                </a:lnTo>
                <a:lnTo>
                  <a:pt x="215" y="441"/>
                </a:lnTo>
                <a:lnTo>
                  <a:pt x="200" y="438"/>
                </a:lnTo>
                <a:lnTo>
                  <a:pt x="189" y="434"/>
                </a:lnTo>
                <a:lnTo>
                  <a:pt x="176" y="431"/>
                </a:lnTo>
                <a:lnTo>
                  <a:pt x="163" y="426"/>
                </a:lnTo>
                <a:lnTo>
                  <a:pt x="151" y="421"/>
                </a:lnTo>
                <a:lnTo>
                  <a:pt x="138" y="415"/>
                </a:lnTo>
                <a:lnTo>
                  <a:pt x="127" y="408"/>
                </a:lnTo>
                <a:lnTo>
                  <a:pt x="115" y="401"/>
                </a:lnTo>
                <a:lnTo>
                  <a:pt x="104" y="393"/>
                </a:lnTo>
                <a:lnTo>
                  <a:pt x="92" y="383"/>
                </a:lnTo>
                <a:lnTo>
                  <a:pt x="81" y="375"/>
                </a:lnTo>
                <a:lnTo>
                  <a:pt x="69" y="365"/>
                </a:lnTo>
                <a:lnTo>
                  <a:pt x="61" y="354"/>
                </a:lnTo>
                <a:lnTo>
                  <a:pt x="51" y="346"/>
                </a:lnTo>
                <a:lnTo>
                  <a:pt x="42" y="337"/>
                </a:lnTo>
                <a:lnTo>
                  <a:pt x="35" y="329"/>
                </a:lnTo>
                <a:lnTo>
                  <a:pt x="29" y="321"/>
                </a:lnTo>
                <a:lnTo>
                  <a:pt x="23" y="314"/>
                </a:lnTo>
                <a:lnTo>
                  <a:pt x="18" y="307"/>
                </a:lnTo>
                <a:lnTo>
                  <a:pt x="13" y="301"/>
                </a:lnTo>
                <a:lnTo>
                  <a:pt x="9" y="295"/>
                </a:lnTo>
                <a:lnTo>
                  <a:pt x="6" y="290"/>
                </a:lnTo>
                <a:lnTo>
                  <a:pt x="3" y="284"/>
                </a:lnTo>
                <a:lnTo>
                  <a:pt x="2" y="280"/>
                </a:lnTo>
                <a:lnTo>
                  <a:pt x="0" y="275"/>
                </a:lnTo>
                <a:lnTo>
                  <a:pt x="0" y="271"/>
                </a:lnTo>
                <a:lnTo>
                  <a:pt x="0" y="268"/>
                </a:lnTo>
                <a:lnTo>
                  <a:pt x="0" y="264"/>
                </a:lnTo>
                <a:lnTo>
                  <a:pt x="2" y="261"/>
                </a:lnTo>
                <a:lnTo>
                  <a:pt x="3" y="259"/>
                </a:lnTo>
                <a:lnTo>
                  <a:pt x="7" y="257"/>
                </a:lnTo>
                <a:lnTo>
                  <a:pt x="12" y="255"/>
                </a:lnTo>
                <a:lnTo>
                  <a:pt x="16" y="254"/>
                </a:lnTo>
                <a:lnTo>
                  <a:pt x="23" y="252"/>
                </a:lnTo>
                <a:lnTo>
                  <a:pt x="30" y="252"/>
                </a:lnTo>
                <a:lnTo>
                  <a:pt x="38" y="251"/>
                </a:lnTo>
                <a:lnTo>
                  <a:pt x="48" y="251"/>
                </a:lnTo>
                <a:lnTo>
                  <a:pt x="58" y="249"/>
                </a:lnTo>
                <a:lnTo>
                  <a:pt x="68" y="249"/>
                </a:lnTo>
                <a:lnTo>
                  <a:pt x="81" y="249"/>
                </a:lnTo>
                <a:lnTo>
                  <a:pt x="94" y="249"/>
                </a:lnTo>
                <a:lnTo>
                  <a:pt x="107" y="249"/>
                </a:lnTo>
                <a:lnTo>
                  <a:pt x="123" y="249"/>
                </a:lnTo>
                <a:lnTo>
                  <a:pt x="128" y="251"/>
                </a:lnTo>
                <a:lnTo>
                  <a:pt x="136" y="252"/>
                </a:lnTo>
                <a:lnTo>
                  <a:pt x="143" y="254"/>
                </a:lnTo>
                <a:lnTo>
                  <a:pt x="151" y="254"/>
                </a:lnTo>
                <a:lnTo>
                  <a:pt x="161" y="254"/>
                </a:lnTo>
                <a:lnTo>
                  <a:pt x="172" y="254"/>
                </a:lnTo>
                <a:lnTo>
                  <a:pt x="183" y="254"/>
                </a:lnTo>
                <a:lnTo>
                  <a:pt x="195" y="254"/>
                </a:lnTo>
                <a:lnTo>
                  <a:pt x="208" y="252"/>
                </a:lnTo>
                <a:lnTo>
                  <a:pt x="221" y="251"/>
                </a:lnTo>
                <a:lnTo>
                  <a:pt x="235" y="249"/>
                </a:lnTo>
                <a:lnTo>
                  <a:pt x="251" y="248"/>
                </a:lnTo>
                <a:lnTo>
                  <a:pt x="267" y="246"/>
                </a:lnTo>
                <a:lnTo>
                  <a:pt x="282" y="244"/>
                </a:lnTo>
                <a:lnTo>
                  <a:pt x="301" y="242"/>
                </a:lnTo>
                <a:lnTo>
                  <a:pt x="318" y="239"/>
                </a:lnTo>
                <a:lnTo>
                  <a:pt x="339" y="236"/>
                </a:lnTo>
                <a:lnTo>
                  <a:pt x="357" y="232"/>
                </a:lnTo>
                <a:lnTo>
                  <a:pt x="379" y="229"/>
                </a:lnTo>
                <a:lnTo>
                  <a:pt x="400" y="225"/>
                </a:lnTo>
                <a:lnTo>
                  <a:pt x="422" y="221"/>
                </a:lnTo>
                <a:lnTo>
                  <a:pt x="445" y="216"/>
                </a:lnTo>
                <a:lnTo>
                  <a:pt x="468" y="212"/>
                </a:lnTo>
                <a:lnTo>
                  <a:pt x="493" y="208"/>
                </a:lnTo>
                <a:lnTo>
                  <a:pt x="518" y="202"/>
                </a:lnTo>
                <a:lnTo>
                  <a:pt x="544" y="198"/>
                </a:lnTo>
                <a:lnTo>
                  <a:pt x="570" y="192"/>
                </a:lnTo>
                <a:lnTo>
                  <a:pt x="598" y="186"/>
                </a:lnTo>
                <a:lnTo>
                  <a:pt x="626" y="180"/>
                </a:lnTo>
                <a:lnTo>
                  <a:pt x="655" y="173"/>
                </a:lnTo>
                <a:lnTo>
                  <a:pt x="684" y="167"/>
                </a:lnTo>
                <a:lnTo>
                  <a:pt x="716" y="160"/>
                </a:lnTo>
                <a:lnTo>
                  <a:pt x="746" y="154"/>
                </a:lnTo>
                <a:lnTo>
                  <a:pt x="775" y="150"/>
                </a:lnTo>
                <a:lnTo>
                  <a:pt x="804" y="144"/>
                </a:lnTo>
                <a:lnTo>
                  <a:pt x="832" y="140"/>
                </a:lnTo>
                <a:lnTo>
                  <a:pt x="860" y="134"/>
                </a:lnTo>
                <a:lnTo>
                  <a:pt x="886" y="130"/>
                </a:lnTo>
                <a:lnTo>
                  <a:pt x="911" y="126"/>
                </a:lnTo>
                <a:lnTo>
                  <a:pt x="937" y="120"/>
                </a:lnTo>
                <a:lnTo>
                  <a:pt x="962" y="115"/>
                </a:lnTo>
                <a:lnTo>
                  <a:pt x="985" y="111"/>
                </a:lnTo>
                <a:lnTo>
                  <a:pt x="1008" y="105"/>
                </a:lnTo>
                <a:lnTo>
                  <a:pt x="1030" y="101"/>
                </a:lnTo>
                <a:lnTo>
                  <a:pt x="1051" y="97"/>
                </a:lnTo>
                <a:lnTo>
                  <a:pt x="1071" y="92"/>
                </a:lnTo>
                <a:lnTo>
                  <a:pt x="1091" y="88"/>
                </a:lnTo>
                <a:lnTo>
                  <a:pt x="1110" y="84"/>
                </a:lnTo>
                <a:lnTo>
                  <a:pt x="1129" y="79"/>
                </a:lnTo>
                <a:lnTo>
                  <a:pt x="1146" y="77"/>
                </a:lnTo>
                <a:lnTo>
                  <a:pt x="1163" y="72"/>
                </a:lnTo>
                <a:lnTo>
                  <a:pt x="1179" y="68"/>
                </a:lnTo>
                <a:lnTo>
                  <a:pt x="1195" y="65"/>
                </a:lnTo>
                <a:lnTo>
                  <a:pt x="1208" y="61"/>
                </a:lnTo>
                <a:lnTo>
                  <a:pt x="1222" y="58"/>
                </a:lnTo>
                <a:lnTo>
                  <a:pt x="1235" y="55"/>
                </a:lnTo>
                <a:lnTo>
                  <a:pt x="1247" y="52"/>
                </a:lnTo>
                <a:lnTo>
                  <a:pt x="1258" y="49"/>
                </a:lnTo>
                <a:lnTo>
                  <a:pt x="1269" y="46"/>
                </a:lnTo>
                <a:lnTo>
                  <a:pt x="1277" y="43"/>
                </a:lnTo>
                <a:lnTo>
                  <a:pt x="1286" y="42"/>
                </a:lnTo>
                <a:lnTo>
                  <a:pt x="1294" y="39"/>
                </a:lnTo>
                <a:lnTo>
                  <a:pt x="1302" y="38"/>
                </a:lnTo>
                <a:lnTo>
                  <a:pt x="1307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85"/>
          <p:cNvSpPr/>
          <p:nvPr/>
        </p:nvSpPr>
        <p:spPr>
          <a:xfrm>
            <a:off x="6894360" y="3262320"/>
            <a:ext cx="223920" cy="1839960"/>
          </a:xfrm>
          <a:custGeom>
            <a:avLst/>
            <a:gdLst/>
            <a:ahLst/>
            <a:rect l="l" t="t" r="r" b="b"/>
            <a:pathLst>
              <a:path w="421" h="3476">
                <a:moveTo>
                  <a:pt x="54" y="212"/>
                </a:moveTo>
                <a:lnTo>
                  <a:pt x="42" y="198"/>
                </a:lnTo>
                <a:lnTo>
                  <a:pt x="33" y="185"/>
                </a:lnTo>
                <a:lnTo>
                  <a:pt x="25" y="173"/>
                </a:lnTo>
                <a:lnTo>
                  <a:pt x="18" y="160"/>
                </a:lnTo>
                <a:lnTo>
                  <a:pt x="12" y="149"/>
                </a:lnTo>
                <a:lnTo>
                  <a:pt x="8" y="137"/>
                </a:lnTo>
                <a:lnTo>
                  <a:pt x="5" y="126"/>
                </a:lnTo>
                <a:lnTo>
                  <a:pt x="2" y="116"/>
                </a:lnTo>
                <a:lnTo>
                  <a:pt x="0" y="104"/>
                </a:lnTo>
                <a:lnTo>
                  <a:pt x="0" y="94"/>
                </a:lnTo>
                <a:lnTo>
                  <a:pt x="0" y="84"/>
                </a:lnTo>
                <a:lnTo>
                  <a:pt x="2" y="74"/>
                </a:lnTo>
                <a:lnTo>
                  <a:pt x="3" y="64"/>
                </a:lnTo>
                <a:lnTo>
                  <a:pt x="5" y="54"/>
                </a:lnTo>
                <a:lnTo>
                  <a:pt x="9" y="44"/>
                </a:lnTo>
                <a:lnTo>
                  <a:pt x="12" y="33"/>
                </a:lnTo>
                <a:lnTo>
                  <a:pt x="15" y="29"/>
                </a:lnTo>
                <a:lnTo>
                  <a:pt x="16" y="25"/>
                </a:lnTo>
                <a:lnTo>
                  <a:pt x="21" y="21"/>
                </a:lnTo>
                <a:lnTo>
                  <a:pt x="25" y="16"/>
                </a:lnTo>
                <a:lnTo>
                  <a:pt x="29" y="13"/>
                </a:lnTo>
                <a:lnTo>
                  <a:pt x="35" y="10"/>
                </a:lnTo>
                <a:lnTo>
                  <a:pt x="41" y="8"/>
                </a:lnTo>
                <a:lnTo>
                  <a:pt x="46" y="6"/>
                </a:lnTo>
                <a:lnTo>
                  <a:pt x="54" y="5"/>
                </a:lnTo>
                <a:lnTo>
                  <a:pt x="62" y="3"/>
                </a:lnTo>
                <a:lnTo>
                  <a:pt x="71" y="2"/>
                </a:lnTo>
                <a:lnTo>
                  <a:pt x="80" y="0"/>
                </a:lnTo>
                <a:lnTo>
                  <a:pt x="90" y="0"/>
                </a:lnTo>
                <a:lnTo>
                  <a:pt x="101" y="0"/>
                </a:lnTo>
                <a:lnTo>
                  <a:pt x="113" y="0"/>
                </a:lnTo>
                <a:lnTo>
                  <a:pt x="124" y="2"/>
                </a:lnTo>
                <a:lnTo>
                  <a:pt x="137" y="2"/>
                </a:lnTo>
                <a:lnTo>
                  <a:pt x="150" y="3"/>
                </a:lnTo>
                <a:lnTo>
                  <a:pt x="164" y="5"/>
                </a:lnTo>
                <a:lnTo>
                  <a:pt x="180" y="8"/>
                </a:lnTo>
                <a:lnTo>
                  <a:pt x="196" y="9"/>
                </a:lnTo>
                <a:lnTo>
                  <a:pt x="212" y="12"/>
                </a:lnTo>
                <a:lnTo>
                  <a:pt x="229" y="15"/>
                </a:lnTo>
                <a:lnTo>
                  <a:pt x="248" y="18"/>
                </a:lnTo>
                <a:lnTo>
                  <a:pt x="267" y="21"/>
                </a:lnTo>
                <a:lnTo>
                  <a:pt x="287" y="25"/>
                </a:lnTo>
                <a:lnTo>
                  <a:pt x="307" y="28"/>
                </a:lnTo>
                <a:lnTo>
                  <a:pt x="327" y="32"/>
                </a:lnTo>
                <a:lnTo>
                  <a:pt x="350" y="36"/>
                </a:lnTo>
                <a:lnTo>
                  <a:pt x="373" y="41"/>
                </a:lnTo>
                <a:lnTo>
                  <a:pt x="396" y="46"/>
                </a:lnTo>
                <a:lnTo>
                  <a:pt x="421" y="51"/>
                </a:lnTo>
                <a:lnTo>
                  <a:pt x="421" y="134"/>
                </a:lnTo>
                <a:lnTo>
                  <a:pt x="421" y="216"/>
                </a:lnTo>
                <a:lnTo>
                  <a:pt x="421" y="297"/>
                </a:lnTo>
                <a:lnTo>
                  <a:pt x="421" y="376"/>
                </a:lnTo>
                <a:lnTo>
                  <a:pt x="421" y="455"/>
                </a:lnTo>
                <a:lnTo>
                  <a:pt x="421" y="532"/>
                </a:lnTo>
                <a:lnTo>
                  <a:pt x="421" y="608"/>
                </a:lnTo>
                <a:lnTo>
                  <a:pt x="419" y="684"/>
                </a:lnTo>
                <a:lnTo>
                  <a:pt x="419" y="758"/>
                </a:lnTo>
                <a:lnTo>
                  <a:pt x="419" y="831"/>
                </a:lnTo>
                <a:lnTo>
                  <a:pt x="419" y="903"/>
                </a:lnTo>
                <a:lnTo>
                  <a:pt x="419" y="974"/>
                </a:lnTo>
                <a:lnTo>
                  <a:pt x="418" y="1043"/>
                </a:lnTo>
                <a:lnTo>
                  <a:pt x="418" y="1112"/>
                </a:lnTo>
                <a:lnTo>
                  <a:pt x="418" y="1178"/>
                </a:lnTo>
                <a:lnTo>
                  <a:pt x="418" y="1244"/>
                </a:lnTo>
                <a:lnTo>
                  <a:pt x="416" y="1310"/>
                </a:lnTo>
                <a:lnTo>
                  <a:pt x="416" y="1374"/>
                </a:lnTo>
                <a:lnTo>
                  <a:pt x="416" y="1437"/>
                </a:lnTo>
                <a:lnTo>
                  <a:pt x="415" y="1498"/>
                </a:lnTo>
                <a:lnTo>
                  <a:pt x="415" y="1559"/>
                </a:lnTo>
                <a:lnTo>
                  <a:pt x="414" y="1618"/>
                </a:lnTo>
                <a:lnTo>
                  <a:pt x="414" y="1676"/>
                </a:lnTo>
                <a:lnTo>
                  <a:pt x="414" y="1734"/>
                </a:lnTo>
                <a:lnTo>
                  <a:pt x="412" y="1790"/>
                </a:lnTo>
                <a:lnTo>
                  <a:pt x="412" y="1844"/>
                </a:lnTo>
                <a:lnTo>
                  <a:pt x="411" y="1899"/>
                </a:lnTo>
                <a:lnTo>
                  <a:pt x="411" y="1951"/>
                </a:lnTo>
                <a:lnTo>
                  <a:pt x="409" y="2003"/>
                </a:lnTo>
                <a:lnTo>
                  <a:pt x="409" y="2053"/>
                </a:lnTo>
                <a:lnTo>
                  <a:pt x="409" y="2102"/>
                </a:lnTo>
                <a:lnTo>
                  <a:pt x="408" y="2151"/>
                </a:lnTo>
                <a:lnTo>
                  <a:pt x="408" y="2199"/>
                </a:lnTo>
                <a:lnTo>
                  <a:pt x="406" y="2243"/>
                </a:lnTo>
                <a:lnTo>
                  <a:pt x="405" y="2289"/>
                </a:lnTo>
                <a:lnTo>
                  <a:pt x="405" y="2333"/>
                </a:lnTo>
                <a:lnTo>
                  <a:pt x="403" y="2376"/>
                </a:lnTo>
                <a:lnTo>
                  <a:pt x="403" y="2416"/>
                </a:lnTo>
                <a:lnTo>
                  <a:pt x="402" y="2456"/>
                </a:lnTo>
                <a:lnTo>
                  <a:pt x="402" y="2497"/>
                </a:lnTo>
                <a:lnTo>
                  <a:pt x="401" y="2534"/>
                </a:lnTo>
                <a:lnTo>
                  <a:pt x="401" y="2571"/>
                </a:lnTo>
                <a:lnTo>
                  <a:pt x="399" y="2607"/>
                </a:lnTo>
                <a:lnTo>
                  <a:pt x="398" y="2642"/>
                </a:lnTo>
                <a:lnTo>
                  <a:pt x="398" y="2675"/>
                </a:lnTo>
                <a:lnTo>
                  <a:pt x="396" y="2708"/>
                </a:lnTo>
                <a:lnTo>
                  <a:pt x="396" y="2740"/>
                </a:lnTo>
                <a:lnTo>
                  <a:pt x="395" y="2770"/>
                </a:lnTo>
                <a:lnTo>
                  <a:pt x="393" y="2799"/>
                </a:lnTo>
                <a:lnTo>
                  <a:pt x="393" y="2826"/>
                </a:lnTo>
                <a:lnTo>
                  <a:pt x="392" y="2854"/>
                </a:lnTo>
                <a:lnTo>
                  <a:pt x="391" y="2880"/>
                </a:lnTo>
                <a:lnTo>
                  <a:pt x="391" y="2904"/>
                </a:lnTo>
                <a:lnTo>
                  <a:pt x="389" y="2927"/>
                </a:lnTo>
                <a:lnTo>
                  <a:pt x="388" y="2950"/>
                </a:lnTo>
                <a:lnTo>
                  <a:pt x="388" y="2970"/>
                </a:lnTo>
                <a:lnTo>
                  <a:pt x="386" y="2990"/>
                </a:lnTo>
                <a:lnTo>
                  <a:pt x="385" y="3011"/>
                </a:lnTo>
                <a:lnTo>
                  <a:pt x="385" y="3028"/>
                </a:lnTo>
                <a:lnTo>
                  <a:pt x="383" y="3045"/>
                </a:lnTo>
                <a:lnTo>
                  <a:pt x="382" y="3061"/>
                </a:lnTo>
                <a:lnTo>
                  <a:pt x="382" y="3075"/>
                </a:lnTo>
                <a:lnTo>
                  <a:pt x="380" y="3088"/>
                </a:lnTo>
                <a:lnTo>
                  <a:pt x="380" y="3101"/>
                </a:lnTo>
                <a:lnTo>
                  <a:pt x="378" y="3124"/>
                </a:lnTo>
                <a:lnTo>
                  <a:pt x="376" y="3146"/>
                </a:lnTo>
                <a:lnTo>
                  <a:pt x="373" y="3167"/>
                </a:lnTo>
                <a:lnTo>
                  <a:pt x="372" y="3189"/>
                </a:lnTo>
                <a:lnTo>
                  <a:pt x="369" y="3208"/>
                </a:lnTo>
                <a:lnTo>
                  <a:pt x="366" y="3228"/>
                </a:lnTo>
                <a:lnTo>
                  <a:pt x="363" y="3247"/>
                </a:lnTo>
                <a:lnTo>
                  <a:pt x="362" y="3264"/>
                </a:lnTo>
                <a:lnTo>
                  <a:pt x="359" y="3281"/>
                </a:lnTo>
                <a:lnTo>
                  <a:pt x="356" y="3298"/>
                </a:lnTo>
                <a:lnTo>
                  <a:pt x="353" y="3314"/>
                </a:lnTo>
                <a:lnTo>
                  <a:pt x="349" y="3329"/>
                </a:lnTo>
                <a:lnTo>
                  <a:pt x="346" y="3343"/>
                </a:lnTo>
                <a:lnTo>
                  <a:pt x="343" y="3356"/>
                </a:lnTo>
                <a:lnTo>
                  <a:pt x="340" y="3369"/>
                </a:lnTo>
                <a:lnTo>
                  <a:pt x="336" y="3382"/>
                </a:lnTo>
                <a:lnTo>
                  <a:pt x="333" y="3392"/>
                </a:lnTo>
                <a:lnTo>
                  <a:pt x="330" y="3404"/>
                </a:lnTo>
                <a:lnTo>
                  <a:pt x="326" y="3414"/>
                </a:lnTo>
                <a:lnTo>
                  <a:pt x="323" y="3422"/>
                </a:lnTo>
                <a:lnTo>
                  <a:pt x="319" y="3431"/>
                </a:lnTo>
                <a:lnTo>
                  <a:pt x="316" y="3438"/>
                </a:lnTo>
                <a:lnTo>
                  <a:pt x="311" y="3445"/>
                </a:lnTo>
                <a:lnTo>
                  <a:pt x="308" y="3451"/>
                </a:lnTo>
                <a:lnTo>
                  <a:pt x="304" y="3457"/>
                </a:lnTo>
                <a:lnTo>
                  <a:pt x="300" y="3461"/>
                </a:lnTo>
                <a:lnTo>
                  <a:pt x="297" y="3465"/>
                </a:lnTo>
                <a:lnTo>
                  <a:pt x="293" y="3468"/>
                </a:lnTo>
                <a:lnTo>
                  <a:pt x="290" y="3471"/>
                </a:lnTo>
                <a:lnTo>
                  <a:pt x="285" y="3474"/>
                </a:lnTo>
                <a:lnTo>
                  <a:pt x="281" y="3474"/>
                </a:lnTo>
                <a:lnTo>
                  <a:pt x="278" y="3476"/>
                </a:lnTo>
                <a:lnTo>
                  <a:pt x="274" y="3473"/>
                </a:lnTo>
                <a:lnTo>
                  <a:pt x="270" y="3470"/>
                </a:lnTo>
                <a:lnTo>
                  <a:pt x="267" y="3467"/>
                </a:lnTo>
                <a:lnTo>
                  <a:pt x="262" y="3463"/>
                </a:lnTo>
                <a:lnTo>
                  <a:pt x="260" y="3458"/>
                </a:lnTo>
                <a:lnTo>
                  <a:pt x="257" y="3454"/>
                </a:lnTo>
                <a:lnTo>
                  <a:pt x="254" y="3448"/>
                </a:lnTo>
                <a:lnTo>
                  <a:pt x="251" y="3441"/>
                </a:lnTo>
                <a:lnTo>
                  <a:pt x="247" y="3434"/>
                </a:lnTo>
                <a:lnTo>
                  <a:pt x="244" y="3427"/>
                </a:lnTo>
                <a:lnTo>
                  <a:pt x="242" y="3418"/>
                </a:lnTo>
                <a:lnTo>
                  <a:pt x="239" y="3409"/>
                </a:lnTo>
                <a:lnTo>
                  <a:pt x="236" y="3399"/>
                </a:lnTo>
                <a:lnTo>
                  <a:pt x="234" y="3389"/>
                </a:lnTo>
                <a:lnTo>
                  <a:pt x="231" y="3378"/>
                </a:lnTo>
                <a:lnTo>
                  <a:pt x="229" y="3366"/>
                </a:lnTo>
                <a:lnTo>
                  <a:pt x="226" y="3353"/>
                </a:lnTo>
                <a:lnTo>
                  <a:pt x="224" y="3340"/>
                </a:lnTo>
                <a:lnTo>
                  <a:pt x="222" y="3326"/>
                </a:lnTo>
                <a:lnTo>
                  <a:pt x="219" y="3311"/>
                </a:lnTo>
                <a:lnTo>
                  <a:pt x="218" y="3297"/>
                </a:lnTo>
                <a:lnTo>
                  <a:pt x="215" y="3281"/>
                </a:lnTo>
                <a:lnTo>
                  <a:pt x="213" y="3264"/>
                </a:lnTo>
                <a:lnTo>
                  <a:pt x="211" y="3247"/>
                </a:lnTo>
                <a:lnTo>
                  <a:pt x="209" y="3229"/>
                </a:lnTo>
                <a:lnTo>
                  <a:pt x="208" y="3211"/>
                </a:lnTo>
                <a:lnTo>
                  <a:pt x="205" y="3191"/>
                </a:lnTo>
                <a:lnTo>
                  <a:pt x="203" y="3170"/>
                </a:lnTo>
                <a:lnTo>
                  <a:pt x="200" y="3150"/>
                </a:lnTo>
                <a:lnTo>
                  <a:pt x="199" y="3129"/>
                </a:lnTo>
                <a:lnTo>
                  <a:pt x="198" y="3106"/>
                </a:lnTo>
                <a:lnTo>
                  <a:pt x="196" y="3083"/>
                </a:lnTo>
                <a:lnTo>
                  <a:pt x="193" y="3057"/>
                </a:lnTo>
                <a:lnTo>
                  <a:pt x="192" y="3029"/>
                </a:lnTo>
                <a:lnTo>
                  <a:pt x="190" y="3001"/>
                </a:lnTo>
                <a:lnTo>
                  <a:pt x="188" y="2970"/>
                </a:lnTo>
                <a:lnTo>
                  <a:pt x="186" y="2939"/>
                </a:lnTo>
                <a:lnTo>
                  <a:pt x="185" y="2905"/>
                </a:lnTo>
                <a:lnTo>
                  <a:pt x="183" y="2871"/>
                </a:lnTo>
                <a:lnTo>
                  <a:pt x="180" y="2835"/>
                </a:lnTo>
                <a:lnTo>
                  <a:pt x="179" y="2798"/>
                </a:lnTo>
                <a:lnTo>
                  <a:pt x="177" y="2757"/>
                </a:lnTo>
                <a:lnTo>
                  <a:pt x="176" y="2717"/>
                </a:lnTo>
                <a:lnTo>
                  <a:pt x="175" y="2675"/>
                </a:lnTo>
                <a:lnTo>
                  <a:pt x="173" y="2631"/>
                </a:lnTo>
                <a:lnTo>
                  <a:pt x="172" y="2586"/>
                </a:lnTo>
                <a:lnTo>
                  <a:pt x="169" y="2538"/>
                </a:lnTo>
                <a:lnTo>
                  <a:pt x="167" y="2489"/>
                </a:lnTo>
                <a:lnTo>
                  <a:pt x="166" y="2439"/>
                </a:lnTo>
                <a:lnTo>
                  <a:pt x="166" y="2389"/>
                </a:lnTo>
                <a:lnTo>
                  <a:pt x="164" y="2335"/>
                </a:lnTo>
                <a:lnTo>
                  <a:pt x="163" y="2279"/>
                </a:lnTo>
                <a:lnTo>
                  <a:pt x="162" y="2223"/>
                </a:lnTo>
                <a:lnTo>
                  <a:pt x="160" y="2166"/>
                </a:lnTo>
                <a:lnTo>
                  <a:pt x="160" y="2105"/>
                </a:lnTo>
                <a:lnTo>
                  <a:pt x="159" y="2045"/>
                </a:lnTo>
                <a:lnTo>
                  <a:pt x="157" y="1981"/>
                </a:lnTo>
                <a:lnTo>
                  <a:pt x="157" y="1916"/>
                </a:lnTo>
                <a:lnTo>
                  <a:pt x="157" y="1850"/>
                </a:lnTo>
                <a:lnTo>
                  <a:pt x="156" y="1783"/>
                </a:lnTo>
                <a:lnTo>
                  <a:pt x="156" y="1713"/>
                </a:lnTo>
                <a:lnTo>
                  <a:pt x="156" y="1643"/>
                </a:lnTo>
                <a:lnTo>
                  <a:pt x="156" y="1570"/>
                </a:lnTo>
                <a:lnTo>
                  <a:pt x="156" y="1496"/>
                </a:lnTo>
                <a:lnTo>
                  <a:pt x="154" y="1421"/>
                </a:lnTo>
                <a:lnTo>
                  <a:pt x="154" y="1349"/>
                </a:lnTo>
                <a:lnTo>
                  <a:pt x="154" y="1280"/>
                </a:lnTo>
                <a:lnTo>
                  <a:pt x="153" y="1213"/>
                </a:lnTo>
                <a:lnTo>
                  <a:pt x="152" y="1146"/>
                </a:lnTo>
                <a:lnTo>
                  <a:pt x="152" y="1083"/>
                </a:lnTo>
                <a:lnTo>
                  <a:pt x="150" y="1022"/>
                </a:lnTo>
                <a:lnTo>
                  <a:pt x="147" y="963"/>
                </a:lnTo>
                <a:lnTo>
                  <a:pt x="146" y="907"/>
                </a:lnTo>
                <a:lnTo>
                  <a:pt x="144" y="853"/>
                </a:lnTo>
                <a:lnTo>
                  <a:pt x="141" y="801"/>
                </a:lnTo>
                <a:lnTo>
                  <a:pt x="139" y="750"/>
                </a:lnTo>
                <a:lnTo>
                  <a:pt x="136" y="703"/>
                </a:lnTo>
                <a:lnTo>
                  <a:pt x="133" y="657"/>
                </a:lnTo>
                <a:lnTo>
                  <a:pt x="130" y="614"/>
                </a:lnTo>
                <a:lnTo>
                  <a:pt x="127" y="573"/>
                </a:lnTo>
                <a:lnTo>
                  <a:pt x="123" y="533"/>
                </a:lnTo>
                <a:lnTo>
                  <a:pt x="120" y="497"/>
                </a:lnTo>
                <a:lnTo>
                  <a:pt x="116" y="462"/>
                </a:lnTo>
                <a:lnTo>
                  <a:pt x="111" y="429"/>
                </a:lnTo>
                <a:lnTo>
                  <a:pt x="108" y="399"/>
                </a:lnTo>
                <a:lnTo>
                  <a:pt x="104" y="372"/>
                </a:lnTo>
                <a:lnTo>
                  <a:pt x="100" y="346"/>
                </a:lnTo>
                <a:lnTo>
                  <a:pt x="94" y="321"/>
                </a:lnTo>
                <a:lnTo>
                  <a:pt x="90" y="300"/>
                </a:lnTo>
                <a:lnTo>
                  <a:pt x="85" y="281"/>
                </a:lnTo>
                <a:lnTo>
                  <a:pt x="80" y="264"/>
                </a:lnTo>
                <a:lnTo>
                  <a:pt x="75" y="249"/>
                </a:lnTo>
                <a:lnTo>
                  <a:pt x="69" y="236"/>
                </a:lnTo>
                <a:lnTo>
                  <a:pt x="64" y="226"/>
                </a:lnTo>
                <a:lnTo>
                  <a:pt x="58" y="218"/>
                </a:lnTo>
                <a:lnTo>
                  <a:pt x="54" y="2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6"/>
          <p:cNvSpPr/>
          <p:nvPr/>
        </p:nvSpPr>
        <p:spPr>
          <a:xfrm>
            <a:off x="7020000" y="3147840"/>
            <a:ext cx="790560" cy="1324080"/>
          </a:xfrm>
          <a:custGeom>
            <a:avLst/>
            <a:gdLst/>
            <a:ahLst/>
            <a:rect l="l" t="t" r="r" b="b"/>
            <a:pathLst>
              <a:path w="1495" h="2501">
                <a:moveTo>
                  <a:pt x="1084" y="2390"/>
                </a:moveTo>
                <a:lnTo>
                  <a:pt x="1077" y="2382"/>
                </a:lnTo>
                <a:lnTo>
                  <a:pt x="1072" y="2373"/>
                </a:lnTo>
                <a:lnTo>
                  <a:pt x="1066" y="2364"/>
                </a:lnTo>
                <a:lnTo>
                  <a:pt x="1059" y="2356"/>
                </a:lnTo>
                <a:lnTo>
                  <a:pt x="1051" y="2347"/>
                </a:lnTo>
                <a:lnTo>
                  <a:pt x="1043" y="2340"/>
                </a:lnTo>
                <a:lnTo>
                  <a:pt x="1036" y="2331"/>
                </a:lnTo>
                <a:lnTo>
                  <a:pt x="1027" y="2323"/>
                </a:lnTo>
                <a:lnTo>
                  <a:pt x="1018" y="2314"/>
                </a:lnTo>
                <a:lnTo>
                  <a:pt x="1008" y="2307"/>
                </a:lnTo>
                <a:lnTo>
                  <a:pt x="1000" y="2298"/>
                </a:lnTo>
                <a:lnTo>
                  <a:pt x="989" y="2289"/>
                </a:lnTo>
                <a:lnTo>
                  <a:pt x="979" y="2282"/>
                </a:lnTo>
                <a:lnTo>
                  <a:pt x="968" y="2274"/>
                </a:lnTo>
                <a:lnTo>
                  <a:pt x="958" y="2266"/>
                </a:lnTo>
                <a:lnTo>
                  <a:pt x="946" y="2258"/>
                </a:lnTo>
                <a:lnTo>
                  <a:pt x="935" y="2251"/>
                </a:lnTo>
                <a:lnTo>
                  <a:pt x="922" y="2242"/>
                </a:lnTo>
                <a:lnTo>
                  <a:pt x="897" y="2227"/>
                </a:lnTo>
                <a:lnTo>
                  <a:pt x="870" y="2212"/>
                </a:lnTo>
                <a:lnTo>
                  <a:pt x="843" y="2197"/>
                </a:lnTo>
                <a:lnTo>
                  <a:pt x="812" y="2181"/>
                </a:lnTo>
                <a:lnTo>
                  <a:pt x="782" y="2167"/>
                </a:lnTo>
                <a:lnTo>
                  <a:pt x="749" y="2154"/>
                </a:lnTo>
                <a:lnTo>
                  <a:pt x="716" y="2140"/>
                </a:lnTo>
                <a:lnTo>
                  <a:pt x="699" y="2132"/>
                </a:lnTo>
                <a:lnTo>
                  <a:pt x="683" y="2127"/>
                </a:lnTo>
                <a:lnTo>
                  <a:pt x="667" y="2120"/>
                </a:lnTo>
                <a:lnTo>
                  <a:pt x="651" y="2114"/>
                </a:lnTo>
                <a:lnTo>
                  <a:pt x="635" y="2107"/>
                </a:lnTo>
                <a:lnTo>
                  <a:pt x="621" y="2101"/>
                </a:lnTo>
                <a:lnTo>
                  <a:pt x="608" y="2095"/>
                </a:lnTo>
                <a:lnTo>
                  <a:pt x="594" y="2089"/>
                </a:lnTo>
                <a:lnTo>
                  <a:pt x="581" y="2084"/>
                </a:lnTo>
                <a:lnTo>
                  <a:pt x="568" y="2078"/>
                </a:lnTo>
                <a:lnTo>
                  <a:pt x="556" y="2072"/>
                </a:lnTo>
                <a:lnTo>
                  <a:pt x="545" y="2066"/>
                </a:lnTo>
                <a:lnTo>
                  <a:pt x="535" y="2060"/>
                </a:lnTo>
                <a:lnTo>
                  <a:pt x="523" y="2056"/>
                </a:lnTo>
                <a:lnTo>
                  <a:pt x="513" y="2050"/>
                </a:lnTo>
                <a:lnTo>
                  <a:pt x="504" y="2046"/>
                </a:lnTo>
                <a:lnTo>
                  <a:pt x="496" y="2040"/>
                </a:lnTo>
                <a:lnTo>
                  <a:pt x="487" y="2036"/>
                </a:lnTo>
                <a:lnTo>
                  <a:pt x="480" y="2030"/>
                </a:lnTo>
                <a:lnTo>
                  <a:pt x="473" y="2026"/>
                </a:lnTo>
                <a:lnTo>
                  <a:pt x="465" y="2022"/>
                </a:lnTo>
                <a:lnTo>
                  <a:pt x="460" y="2017"/>
                </a:lnTo>
                <a:lnTo>
                  <a:pt x="454" y="2013"/>
                </a:lnTo>
                <a:lnTo>
                  <a:pt x="450" y="2009"/>
                </a:lnTo>
                <a:lnTo>
                  <a:pt x="445" y="2004"/>
                </a:lnTo>
                <a:lnTo>
                  <a:pt x="441" y="2001"/>
                </a:lnTo>
                <a:lnTo>
                  <a:pt x="438" y="1997"/>
                </a:lnTo>
                <a:lnTo>
                  <a:pt x="435" y="1993"/>
                </a:lnTo>
                <a:lnTo>
                  <a:pt x="432" y="1990"/>
                </a:lnTo>
                <a:lnTo>
                  <a:pt x="431" y="1986"/>
                </a:lnTo>
                <a:lnTo>
                  <a:pt x="431" y="1983"/>
                </a:lnTo>
                <a:lnTo>
                  <a:pt x="431" y="1980"/>
                </a:lnTo>
                <a:lnTo>
                  <a:pt x="431" y="1976"/>
                </a:lnTo>
                <a:lnTo>
                  <a:pt x="431" y="1973"/>
                </a:lnTo>
                <a:lnTo>
                  <a:pt x="432" y="1970"/>
                </a:lnTo>
                <a:lnTo>
                  <a:pt x="435" y="1967"/>
                </a:lnTo>
                <a:lnTo>
                  <a:pt x="438" y="1965"/>
                </a:lnTo>
                <a:lnTo>
                  <a:pt x="441" y="1963"/>
                </a:lnTo>
                <a:lnTo>
                  <a:pt x="445" y="1961"/>
                </a:lnTo>
                <a:lnTo>
                  <a:pt x="450" y="1958"/>
                </a:lnTo>
                <a:lnTo>
                  <a:pt x="454" y="1957"/>
                </a:lnTo>
                <a:lnTo>
                  <a:pt x="460" y="1955"/>
                </a:lnTo>
                <a:lnTo>
                  <a:pt x="465" y="1954"/>
                </a:lnTo>
                <a:lnTo>
                  <a:pt x="473" y="1954"/>
                </a:lnTo>
                <a:lnTo>
                  <a:pt x="480" y="1953"/>
                </a:lnTo>
                <a:lnTo>
                  <a:pt x="487" y="1953"/>
                </a:lnTo>
                <a:lnTo>
                  <a:pt x="496" y="1953"/>
                </a:lnTo>
                <a:lnTo>
                  <a:pt x="504" y="1953"/>
                </a:lnTo>
                <a:lnTo>
                  <a:pt x="513" y="1953"/>
                </a:lnTo>
                <a:lnTo>
                  <a:pt x="523" y="1953"/>
                </a:lnTo>
                <a:lnTo>
                  <a:pt x="535" y="1953"/>
                </a:lnTo>
                <a:lnTo>
                  <a:pt x="545" y="1954"/>
                </a:lnTo>
                <a:lnTo>
                  <a:pt x="556" y="1954"/>
                </a:lnTo>
                <a:lnTo>
                  <a:pt x="568" y="1955"/>
                </a:lnTo>
                <a:lnTo>
                  <a:pt x="581" y="1957"/>
                </a:lnTo>
                <a:lnTo>
                  <a:pt x="594" y="1958"/>
                </a:lnTo>
                <a:lnTo>
                  <a:pt x="608" y="1961"/>
                </a:lnTo>
                <a:lnTo>
                  <a:pt x="621" y="1963"/>
                </a:lnTo>
                <a:lnTo>
                  <a:pt x="635" y="1964"/>
                </a:lnTo>
                <a:lnTo>
                  <a:pt x="651" y="1967"/>
                </a:lnTo>
                <a:lnTo>
                  <a:pt x="667" y="1970"/>
                </a:lnTo>
                <a:lnTo>
                  <a:pt x="683" y="1973"/>
                </a:lnTo>
                <a:lnTo>
                  <a:pt x="699" y="1976"/>
                </a:lnTo>
                <a:lnTo>
                  <a:pt x="716" y="1980"/>
                </a:lnTo>
                <a:lnTo>
                  <a:pt x="733" y="1983"/>
                </a:lnTo>
                <a:lnTo>
                  <a:pt x="749" y="1986"/>
                </a:lnTo>
                <a:lnTo>
                  <a:pt x="766" y="1989"/>
                </a:lnTo>
                <a:lnTo>
                  <a:pt x="781" y="1991"/>
                </a:lnTo>
                <a:lnTo>
                  <a:pt x="797" y="1994"/>
                </a:lnTo>
                <a:lnTo>
                  <a:pt x="811" y="1997"/>
                </a:lnTo>
                <a:lnTo>
                  <a:pt x="825" y="2000"/>
                </a:lnTo>
                <a:lnTo>
                  <a:pt x="840" y="2003"/>
                </a:lnTo>
                <a:lnTo>
                  <a:pt x="853" y="2004"/>
                </a:lnTo>
                <a:lnTo>
                  <a:pt x="866" y="2007"/>
                </a:lnTo>
                <a:lnTo>
                  <a:pt x="879" y="2009"/>
                </a:lnTo>
                <a:lnTo>
                  <a:pt x="890" y="2012"/>
                </a:lnTo>
                <a:lnTo>
                  <a:pt x="903" y="2013"/>
                </a:lnTo>
                <a:lnTo>
                  <a:pt x="915" y="2014"/>
                </a:lnTo>
                <a:lnTo>
                  <a:pt x="925" y="2016"/>
                </a:lnTo>
                <a:lnTo>
                  <a:pt x="936" y="2017"/>
                </a:lnTo>
                <a:lnTo>
                  <a:pt x="946" y="2019"/>
                </a:lnTo>
                <a:lnTo>
                  <a:pt x="956" y="2020"/>
                </a:lnTo>
                <a:lnTo>
                  <a:pt x="975" y="2022"/>
                </a:lnTo>
                <a:lnTo>
                  <a:pt x="992" y="2022"/>
                </a:lnTo>
                <a:lnTo>
                  <a:pt x="1010" y="2022"/>
                </a:lnTo>
                <a:lnTo>
                  <a:pt x="1024" y="2022"/>
                </a:lnTo>
                <a:lnTo>
                  <a:pt x="1038" y="2020"/>
                </a:lnTo>
                <a:lnTo>
                  <a:pt x="1051" y="2017"/>
                </a:lnTo>
                <a:lnTo>
                  <a:pt x="1064" y="2014"/>
                </a:lnTo>
                <a:lnTo>
                  <a:pt x="1074" y="2012"/>
                </a:lnTo>
                <a:lnTo>
                  <a:pt x="1084" y="2007"/>
                </a:lnTo>
                <a:lnTo>
                  <a:pt x="1095" y="2003"/>
                </a:lnTo>
                <a:lnTo>
                  <a:pt x="1102" y="1997"/>
                </a:lnTo>
                <a:lnTo>
                  <a:pt x="1110" y="1991"/>
                </a:lnTo>
                <a:lnTo>
                  <a:pt x="1116" y="1986"/>
                </a:lnTo>
                <a:lnTo>
                  <a:pt x="1122" y="1980"/>
                </a:lnTo>
                <a:lnTo>
                  <a:pt x="1128" y="1973"/>
                </a:lnTo>
                <a:lnTo>
                  <a:pt x="1132" y="1964"/>
                </a:lnTo>
                <a:lnTo>
                  <a:pt x="1136" y="1955"/>
                </a:lnTo>
                <a:lnTo>
                  <a:pt x="1139" y="1947"/>
                </a:lnTo>
                <a:lnTo>
                  <a:pt x="1142" y="1937"/>
                </a:lnTo>
                <a:lnTo>
                  <a:pt x="1143" y="1927"/>
                </a:lnTo>
                <a:lnTo>
                  <a:pt x="1145" y="1915"/>
                </a:lnTo>
                <a:lnTo>
                  <a:pt x="1145" y="1904"/>
                </a:lnTo>
                <a:lnTo>
                  <a:pt x="1146" y="1891"/>
                </a:lnTo>
                <a:lnTo>
                  <a:pt x="1145" y="1876"/>
                </a:lnTo>
                <a:lnTo>
                  <a:pt x="1145" y="1862"/>
                </a:lnTo>
                <a:lnTo>
                  <a:pt x="1143" y="1847"/>
                </a:lnTo>
                <a:lnTo>
                  <a:pt x="1142" y="1833"/>
                </a:lnTo>
                <a:lnTo>
                  <a:pt x="1139" y="1819"/>
                </a:lnTo>
                <a:lnTo>
                  <a:pt x="1136" y="1803"/>
                </a:lnTo>
                <a:lnTo>
                  <a:pt x="1132" y="1788"/>
                </a:lnTo>
                <a:lnTo>
                  <a:pt x="1128" y="1773"/>
                </a:lnTo>
                <a:lnTo>
                  <a:pt x="1122" y="1757"/>
                </a:lnTo>
                <a:lnTo>
                  <a:pt x="1116" y="1739"/>
                </a:lnTo>
                <a:lnTo>
                  <a:pt x="1109" y="1724"/>
                </a:lnTo>
                <a:lnTo>
                  <a:pt x="1102" y="1708"/>
                </a:lnTo>
                <a:lnTo>
                  <a:pt x="1093" y="1691"/>
                </a:lnTo>
                <a:lnTo>
                  <a:pt x="1084" y="1673"/>
                </a:lnTo>
                <a:lnTo>
                  <a:pt x="1074" y="1657"/>
                </a:lnTo>
                <a:lnTo>
                  <a:pt x="1064" y="1640"/>
                </a:lnTo>
                <a:lnTo>
                  <a:pt x="1057" y="1631"/>
                </a:lnTo>
                <a:lnTo>
                  <a:pt x="1051" y="1623"/>
                </a:lnTo>
                <a:lnTo>
                  <a:pt x="1046" y="1614"/>
                </a:lnTo>
                <a:lnTo>
                  <a:pt x="1038" y="1606"/>
                </a:lnTo>
                <a:lnTo>
                  <a:pt x="1023" y="1587"/>
                </a:lnTo>
                <a:lnTo>
                  <a:pt x="1007" y="1567"/>
                </a:lnTo>
                <a:lnTo>
                  <a:pt x="989" y="1547"/>
                </a:lnTo>
                <a:lnTo>
                  <a:pt x="971" y="1526"/>
                </a:lnTo>
                <a:lnTo>
                  <a:pt x="951" y="1505"/>
                </a:lnTo>
                <a:lnTo>
                  <a:pt x="930" y="1482"/>
                </a:lnTo>
                <a:lnTo>
                  <a:pt x="909" y="1460"/>
                </a:lnTo>
                <a:lnTo>
                  <a:pt x="886" y="1436"/>
                </a:lnTo>
                <a:lnTo>
                  <a:pt x="863" y="1413"/>
                </a:lnTo>
                <a:lnTo>
                  <a:pt x="838" y="1388"/>
                </a:lnTo>
                <a:lnTo>
                  <a:pt x="814" y="1362"/>
                </a:lnTo>
                <a:lnTo>
                  <a:pt x="789" y="1336"/>
                </a:lnTo>
                <a:lnTo>
                  <a:pt x="763" y="1310"/>
                </a:lnTo>
                <a:lnTo>
                  <a:pt x="738" y="1285"/>
                </a:lnTo>
                <a:lnTo>
                  <a:pt x="722" y="1272"/>
                </a:lnTo>
                <a:lnTo>
                  <a:pt x="707" y="1260"/>
                </a:lnTo>
                <a:lnTo>
                  <a:pt x="693" y="1249"/>
                </a:lnTo>
                <a:lnTo>
                  <a:pt x="680" y="1238"/>
                </a:lnTo>
                <a:lnTo>
                  <a:pt x="667" y="1227"/>
                </a:lnTo>
                <a:lnTo>
                  <a:pt x="654" y="1217"/>
                </a:lnTo>
                <a:lnTo>
                  <a:pt x="641" y="1207"/>
                </a:lnTo>
                <a:lnTo>
                  <a:pt x="630" y="1197"/>
                </a:lnTo>
                <a:lnTo>
                  <a:pt x="618" y="1187"/>
                </a:lnTo>
                <a:lnTo>
                  <a:pt x="608" y="1177"/>
                </a:lnTo>
                <a:lnTo>
                  <a:pt x="598" y="1168"/>
                </a:lnTo>
                <a:lnTo>
                  <a:pt x="588" y="1158"/>
                </a:lnTo>
                <a:lnTo>
                  <a:pt x="578" y="1149"/>
                </a:lnTo>
                <a:lnTo>
                  <a:pt x="569" y="1141"/>
                </a:lnTo>
                <a:lnTo>
                  <a:pt x="560" y="1133"/>
                </a:lnTo>
                <a:lnTo>
                  <a:pt x="553" y="1125"/>
                </a:lnTo>
                <a:lnTo>
                  <a:pt x="546" y="1118"/>
                </a:lnTo>
                <a:lnTo>
                  <a:pt x="539" y="1109"/>
                </a:lnTo>
                <a:lnTo>
                  <a:pt x="532" y="1102"/>
                </a:lnTo>
                <a:lnTo>
                  <a:pt x="526" y="1095"/>
                </a:lnTo>
                <a:lnTo>
                  <a:pt x="520" y="1089"/>
                </a:lnTo>
                <a:lnTo>
                  <a:pt x="516" y="1082"/>
                </a:lnTo>
                <a:lnTo>
                  <a:pt x="512" y="1076"/>
                </a:lnTo>
                <a:lnTo>
                  <a:pt x="507" y="1070"/>
                </a:lnTo>
                <a:lnTo>
                  <a:pt x="503" y="1064"/>
                </a:lnTo>
                <a:lnTo>
                  <a:pt x="500" y="1060"/>
                </a:lnTo>
                <a:lnTo>
                  <a:pt x="497" y="1054"/>
                </a:lnTo>
                <a:lnTo>
                  <a:pt x="496" y="1050"/>
                </a:lnTo>
                <a:lnTo>
                  <a:pt x="494" y="1046"/>
                </a:lnTo>
                <a:lnTo>
                  <a:pt x="493" y="1041"/>
                </a:lnTo>
                <a:lnTo>
                  <a:pt x="491" y="1037"/>
                </a:lnTo>
                <a:lnTo>
                  <a:pt x="491" y="1034"/>
                </a:lnTo>
                <a:lnTo>
                  <a:pt x="491" y="1033"/>
                </a:lnTo>
                <a:lnTo>
                  <a:pt x="493" y="1030"/>
                </a:lnTo>
                <a:lnTo>
                  <a:pt x="493" y="1027"/>
                </a:lnTo>
                <a:lnTo>
                  <a:pt x="494" y="1023"/>
                </a:lnTo>
                <a:lnTo>
                  <a:pt x="496" y="1018"/>
                </a:lnTo>
                <a:lnTo>
                  <a:pt x="497" y="1012"/>
                </a:lnTo>
                <a:lnTo>
                  <a:pt x="500" y="1007"/>
                </a:lnTo>
                <a:lnTo>
                  <a:pt x="503" y="1001"/>
                </a:lnTo>
                <a:lnTo>
                  <a:pt x="506" y="994"/>
                </a:lnTo>
                <a:lnTo>
                  <a:pt x="509" y="987"/>
                </a:lnTo>
                <a:lnTo>
                  <a:pt x="513" y="978"/>
                </a:lnTo>
                <a:lnTo>
                  <a:pt x="516" y="969"/>
                </a:lnTo>
                <a:lnTo>
                  <a:pt x="520" y="959"/>
                </a:lnTo>
                <a:lnTo>
                  <a:pt x="526" y="949"/>
                </a:lnTo>
                <a:lnTo>
                  <a:pt x="530" y="939"/>
                </a:lnTo>
                <a:lnTo>
                  <a:pt x="536" y="928"/>
                </a:lnTo>
                <a:lnTo>
                  <a:pt x="540" y="915"/>
                </a:lnTo>
                <a:lnTo>
                  <a:pt x="546" y="903"/>
                </a:lnTo>
                <a:lnTo>
                  <a:pt x="552" y="889"/>
                </a:lnTo>
                <a:lnTo>
                  <a:pt x="559" y="876"/>
                </a:lnTo>
                <a:lnTo>
                  <a:pt x="565" y="861"/>
                </a:lnTo>
                <a:lnTo>
                  <a:pt x="572" y="845"/>
                </a:lnTo>
                <a:lnTo>
                  <a:pt x="579" y="830"/>
                </a:lnTo>
                <a:lnTo>
                  <a:pt x="586" y="814"/>
                </a:lnTo>
                <a:lnTo>
                  <a:pt x="595" y="797"/>
                </a:lnTo>
                <a:lnTo>
                  <a:pt x="602" y="779"/>
                </a:lnTo>
                <a:lnTo>
                  <a:pt x="611" y="761"/>
                </a:lnTo>
                <a:lnTo>
                  <a:pt x="619" y="742"/>
                </a:lnTo>
                <a:lnTo>
                  <a:pt x="628" y="722"/>
                </a:lnTo>
                <a:lnTo>
                  <a:pt x="637" y="702"/>
                </a:lnTo>
                <a:lnTo>
                  <a:pt x="645" y="680"/>
                </a:lnTo>
                <a:lnTo>
                  <a:pt x="655" y="660"/>
                </a:lnTo>
                <a:lnTo>
                  <a:pt x="664" y="640"/>
                </a:lnTo>
                <a:lnTo>
                  <a:pt x="673" y="619"/>
                </a:lnTo>
                <a:lnTo>
                  <a:pt x="681" y="602"/>
                </a:lnTo>
                <a:lnTo>
                  <a:pt x="690" y="583"/>
                </a:lnTo>
                <a:lnTo>
                  <a:pt x="699" y="566"/>
                </a:lnTo>
                <a:lnTo>
                  <a:pt x="707" y="550"/>
                </a:lnTo>
                <a:lnTo>
                  <a:pt x="714" y="533"/>
                </a:lnTo>
                <a:lnTo>
                  <a:pt x="723" y="519"/>
                </a:lnTo>
                <a:lnTo>
                  <a:pt x="730" y="503"/>
                </a:lnTo>
                <a:lnTo>
                  <a:pt x="736" y="490"/>
                </a:lnTo>
                <a:lnTo>
                  <a:pt x="743" y="475"/>
                </a:lnTo>
                <a:lnTo>
                  <a:pt x="749" y="463"/>
                </a:lnTo>
                <a:lnTo>
                  <a:pt x="756" y="450"/>
                </a:lnTo>
                <a:lnTo>
                  <a:pt x="762" y="438"/>
                </a:lnTo>
                <a:lnTo>
                  <a:pt x="766" y="427"/>
                </a:lnTo>
                <a:lnTo>
                  <a:pt x="772" y="416"/>
                </a:lnTo>
                <a:lnTo>
                  <a:pt x="776" y="406"/>
                </a:lnTo>
                <a:lnTo>
                  <a:pt x="781" y="396"/>
                </a:lnTo>
                <a:lnTo>
                  <a:pt x="785" y="388"/>
                </a:lnTo>
                <a:lnTo>
                  <a:pt x="788" y="379"/>
                </a:lnTo>
                <a:lnTo>
                  <a:pt x="791" y="372"/>
                </a:lnTo>
                <a:lnTo>
                  <a:pt x="794" y="365"/>
                </a:lnTo>
                <a:lnTo>
                  <a:pt x="797" y="357"/>
                </a:lnTo>
                <a:lnTo>
                  <a:pt x="798" y="352"/>
                </a:lnTo>
                <a:lnTo>
                  <a:pt x="799" y="346"/>
                </a:lnTo>
                <a:lnTo>
                  <a:pt x="801" y="340"/>
                </a:lnTo>
                <a:lnTo>
                  <a:pt x="801" y="336"/>
                </a:lnTo>
                <a:lnTo>
                  <a:pt x="802" y="332"/>
                </a:lnTo>
                <a:lnTo>
                  <a:pt x="801" y="329"/>
                </a:lnTo>
                <a:lnTo>
                  <a:pt x="801" y="326"/>
                </a:lnTo>
                <a:lnTo>
                  <a:pt x="799" y="323"/>
                </a:lnTo>
                <a:lnTo>
                  <a:pt x="798" y="321"/>
                </a:lnTo>
                <a:lnTo>
                  <a:pt x="797" y="319"/>
                </a:lnTo>
                <a:lnTo>
                  <a:pt x="794" y="317"/>
                </a:lnTo>
                <a:lnTo>
                  <a:pt x="791" y="317"/>
                </a:lnTo>
                <a:lnTo>
                  <a:pt x="786" y="316"/>
                </a:lnTo>
                <a:lnTo>
                  <a:pt x="782" y="314"/>
                </a:lnTo>
                <a:lnTo>
                  <a:pt x="778" y="314"/>
                </a:lnTo>
                <a:lnTo>
                  <a:pt x="774" y="314"/>
                </a:lnTo>
                <a:lnTo>
                  <a:pt x="768" y="313"/>
                </a:lnTo>
                <a:lnTo>
                  <a:pt x="762" y="313"/>
                </a:lnTo>
                <a:lnTo>
                  <a:pt x="755" y="313"/>
                </a:lnTo>
                <a:lnTo>
                  <a:pt x="748" y="313"/>
                </a:lnTo>
                <a:lnTo>
                  <a:pt x="740" y="314"/>
                </a:lnTo>
                <a:lnTo>
                  <a:pt x="733" y="314"/>
                </a:lnTo>
                <a:lnTo>
                  <a:pt x="725" y="314"/>
                </a:lnTo>
                <a:lnTo>
                  <a:pt x="716" y="316"/>
                </a:lnTo>
                <a:lnTo>
                  <a:pt x="706" y="316"/>
                </a:lnTo>
                <a:lnTo>
                  <a:pt x="696" y="317"/>
                </a:lnTo>
                <a:lnTo>
                  <a:pt x="686" y="317"/>
                </a:lnTo>
                <a:lnTo>
                  <a:pt x="676" y="319"/>
                </a:lnTo>
                <a:lnTo>
                  <a:pt x="664" y="320"/>
                </a:lnTo>
                <a:lnTo>
                  <a:pt x="653" y="321"/>
                </a:lnTo>
                <a:lnTo>
                  <a:pt x="640" y="323"/>
                </a:lnTo>
                <a:lnTo>
                  <a:pt x="627" y="324"/>
                </a:lnTo>
                <a:lnTo>
                  <a:pt x="614" y="326"/>
                </a:lnTo>
                <a:lnTo>
                  <a:pt x="601" y="327"/>
                </a:lnTo>
                <a:lnTo>
                  <a:pt x="586" y="329"/>
                </a:lnTo>
                <a:lnTo>
                  <a:pt x="572" y="330"/>
                </a:lnTo>
                <a:lnTo>
                  <a:pt x="556" y="332"/>
                </a:lnTo>
                <a:lnTo>
                  <a:pt x="540" y="333"/>
                </a:lnTo>
                <a:lnTo>
                  <a:pt x="524" y="334"/>
                </a:lnTo>
                <a:lnTo>
                  <a:pt x="509" y="336"/>
                </a:lnTo>
                <a:lnTo>
                  <a:pt x="491" y="339"/>
                </a:lnTo>
                <a:lnTo>
                  <a:pt x="457" y="344"/>
                </a:lnTo>
                <a:lnTo>
                  <a:pt x="424" y="350"/>
                </a:lnTo>
                <a:lnTo>
                  <a:pt x="391" y="356"/>
                </a:lnTo>
                <a:lnTo>
                  <a:pt x="357" y="362"/>
                </a:lnTo>
                <a:lnTo>
                  <a:pt x="324" y="368"/>
                </a:lnTo>
                <a:lnTo>
                  <a:pt x="293" y="372"/>
                </a:lnTo>
                <a:lnTo>
                  <a:pt x="261" y="375"/>
                </a:lnTo>
                <a:lnTo>
                  <a:pt x="231" y="379"/>
                </a:lnTo>
                <a:lnTo>
                  <a:pt x="201" y="382"/>
                </a:lnTo>
                <a:lnTo>
                  <a:pt x="170" y="385"/>
                </a:lnTo>
                <a:lnTo>
                  <a:pt x="140" y="386"/>
                </a:lnTo>
                <a:lnTo>
                  <a:pt x="111" y="389"/>
                </a:lnTo>
                <a:lnTo>
                  <a:pt x="83" y="391"/>
                </a:lnTo>
                <a:lnTo>
                  <a:pt x="55" y="391"/>
                </a:lnTo>
                <a:lnTo>
                  <a:pt x="28" y="392"/>
                </a:lnTo>
                <a:lnTo>
                  <a:pt x="0" y="392"/>
                </a:lnTo>
                <a:lnTo>
                  <a:pt x="0" y="249"/>
                </a:lnTo>
                <a:lnTo>
                  <a:pt x="28" y="252"/>
                </a:lnTo>
                <a:lnTo>
                  <a:pt x="57" y="254"/>
                </a:lnTo>
                <a:lnTo>
                  <a:pt x="85" y="254"/>
                </a:lnTo>
                <a:lnTo>
                  <a:pt x="116" y="254"/>
                </a:lnTo>
                <a:lnTo>
                  <a:pt x="146" y="252"/>
                </a:lnTo>
                <a:lnTo>
                  <a:pt x="178" y="249"/>
                </a:lnTo>
                <a:lnTo>
                  <a:pt x="211" y="245"/>
                </a:lnTo>
                <a:lnTo>
                  <a:pt x="244" y="241"/>
                </a:lnTo>
                <a:lnTo>
                  <a:pt x="277" y="235"/>
                </a:lnTo>
                <a:lnTo>
                  <a:pt x="311" y="229"/>
                </a:lnTo>
                <a:lnTo>
                  <a:pt x="347" y="222"/>
                </a:lnTo>
                <a:lnTo>
                  <a:pt x="383" y="215"/>
                </a:lnTo>
                <a:lnTo>
                  <a:pt x="419" y="206"/>
                </a:lnTo>
                <a:lnTo>
                  <a:pt x="457" y="198"/>
                </a:lnTo>
                <a:lnTo>
                  <a:pt x="494" y="188"/>
                </a:lnTo>
                <a:lnTo>
                  <a:pt x="533" y="177"/>
                </a:lnTo>
                <a:lnTo>
                  <a:pt x="552" y="173"/>
                </a:lnTo>
                <a:lnTo>
                  <a:pt x="569" y="167"/>
                </a:lnTo>
                <a:lnTo>
                  <a:pt x="588" y="163"/>
                </a:lnTo>
                <a:lnTo>
                  <a:pt x="605" y="159"/>
                </a:lnTo>
                <a:lnTo>
                  <a:pt x="622" y="153"/>
                </a:lnTo>
                <a:lnTo>
                  <a:pt x="638" y="149"/>
                </a:lnTo>
                <a:lnTo>
                  <a:pt x="654" y="144"/>
                </a:lnTo>
                <a:lnTo>
                  <a:pt x="670" y="140"/>
                </a:lnTo>
                <a:lnTo>
                  <a:pt x="686" y="136"/>
                </a:lnTo>
                <a:lnTo>
                  <a:pt x="700" y="131"/>
                </a:lnTo>
                <a:lnTo>
                  <a:pt x="714" y="129"/>
                </a:lnTo>
                <a:lnTo>
                  <a:pt x="727" y="124"/>
                </a:lnTo>
                <a:lnTo>
                  <a:pt x="740" y="120"/>
                </a:lnTo>
                <a:lnTo>
                  <a:pt x="753" y="116"/>
                </a:lnTo>
                <a:lnTo>
                  <a:pt x="766" y="113"/>
                </a:lnTo>
                <a:lnTo>
                  <a:pt x="778" y="108"/>
                </a:lnTo>
                <a:lnTo>
                  <a:pt x="789" y="106"/>
                </a:lnTo>
                <a:lnTo>
                  <a:pt x="799" y="101"/>
                </a:lnTo>
                <a:lnTo>
                  <a:pt x="810" y="97"/>
                </a:lnTo>
                <a:lnTo>
                  <a:pt x="820" y="94"/>
                </a:lnTo>
                <a:lnTo>
                  <a:pt x="830" y="91"/>
                </a:lnTo>
                <a:lnTo>
                  <a:pt x="838" y="87"/>
                </a:lnTo>
                <a:lnTo>
                  <a:pt x="847" y="84"/>
                </a:lnTo>
                <a:lnTo>
                  <a:pt x="854" y="80"/>
                </a:lnTo>
                <a:lnTo>
                  <a:pt x="861" y="77"/>
                </a:lnTo>
                <a:lnTo>
                  <a:pt x="869" y="74"/>
                </a:lnTo>
                <a:lnTo>
                  <a:pt x="876" y="70"/>
                </a:lnTo>
                <a:lnTo>
                  <a:pt x="881" y="67"/>
                </a:lnTo>
                <a:lnTo>
                  <a:pt x="887" y="64"/>
                </a:lnTo>
                <a:lnTo>
                  <a:pt x="892" y="59"/>
                </a:lnTo>
                <a:lnTo>
                  <a:pt x="896" y="57"/>
                </a:lnTo>
                <a:lnTo>
                  <a:pt x="900" y="54"/>
                </a:lnTo>
                <a:lnTo>
                  <a:pt x="907" y="46"/>
                </a:lnTo>
                <a:lnTo>
                  <a:pt x="916" y="41"/>
                </a:lnTo>
                <a:lnTo>
                  <a:pt x="923" y="35"/>
                </a:lnTo>
                <a:lnTo>
                  <a:pt x="930" y="29"/>
                </a:lnTo>
                <a:lnTo>
                  <a:pt x="939" y="25"/>
                </a:lnTo>
                <a:lnTo>
                  <a:pt x="946" y="21"/>
                </a:lnTo>
                <a:lnTo>
                  <a:pt x="955" y="16"/>
                </a:lnTo>
                <a:lnTo>
                  <a:pt x="964" y="13"/>
                </a:lnTo>
                <a:lnTo>
                  <a:pt x="972" y="9"/>
                </a:lnTo>
                <a:lnTo>
                  <a:pt x="982" y="8"/>
                </a:lnTo>
                <a:lnTo>
                  <a:pt x="991" y="5"/>
                </a:lnTo>
                <a:lnTo>
                  <a:pt x="1001" y="3"/>
                </a:lnTo>
                <a:lnTo>
                  <a:pt x="1011" y="2"/>
                </a:lnTo>
                <a:lnTo>
                  <a:pt x="1021" y="0"/>
                </a:lnTo>
                <a:lnTo>
                  <a:pt x="1033" y="0"/>
                </a:lnTo>
                <a:lnTo>
                  <a:pt x="1044" y="0"/>
                </a:lnTo>
                <a:lnTo>
                  <a:pt x="1051" y="3"/>
                </a:lnTo>
                <a:lnTo>
                  <a:pt x="1060" y="8"/>
                </a:lnTo>
                <a:lnTo>
                  <a:pt x="1070" y="12"/>
                </a:lnTo>
                <a:lnTo>
                  <a:pt x="1082" y="16"/>
                </a:lnTo>
                <a:lnTo>
                  <a:pt x="1093" y="22"/>
                </a:lnTo>
                <a:lnTo>
                  <a:pt x="1106" y="28"/>
                </a:lnTo>
                <a:lnTo>
                  <a:pt x="1119" y="35"/>
                </a:lnTo>
                <a:lnTo>
                  <a:pt x="1133" y="42"/>
                </a:lnTo>
                <a:lnTo>
                  <a:pt x="1148" y="49"/>
                </a:lnTo>
                <a:lnTo>
                  <a:pt x="1164" y="58"/>
                </a:lnTo>
                <a:lnTo>
                  <a:pt x="1179" y="67"/>
                </a:lnTo>
                <a:lnTo>
                  <a:pt x="1195" y="77"/>
                </a:lnTo>
                <a:lnTo>
                  <a:pt x="1213" y="88"/>
                </a:lnTo>
                <a:lnTo>
                  <a:pt x="1231" y="98"/>
                </a:lnTo>
                <a:lnTo>
                  <a:pt x="1249" y="111"/>
                </a:lnTo>
                <a:lnTo>
                  <a:pt x="1269" y="124"/>
                </a:lnTo>
                <a:lnTo>
                  <a:pt x="1286" y="140"/>
                </a:lnTo>
                <a:lnTo>
                  <a:pt x="1303" y="156"/>
                </a:lnTo>
                <a:lnTo>
                  <a:pt x="1319" y="169"/>
                </a:lnTo>
                <a:lnTo>
                  <a:pt x="1334" y="182"/>
                </a:lnTo>
                <a:lnTo>
                  <a:pt x="1346" y="193"/>
                </a:lnTo>
                <a:lnTo>
                  <a:pt x="1358" y="205"/>
                </a:lnTo>
                <a:lnTo>
                  <a:pt x="1368" y="213"/>
                </a:lnTo>
                <a:lnTo>
                  <a:pt x="1378" y="222"/>
                </a:lnTo>
                <a:lnTo>
                  <a:pt x="1385" y="231"/>
                </a:lnTo>
                <a:lnTo>
                  <a:pt x="1393" y="238"/>
                </a:lnTo>
                <a:lnTo>
                  <a:pt x="1398" y="244"/>
                </a:lnTo>
                <a:lnTo>
                  <a:pt x="1403" y="249"/>
                </a:lnTo>
                <a:lnTo>
                  <a:pt x="1407" y="255"/>
                </a:lnTo>
                <a:lnTo>
                  <a:pt x="1410" y="260"/>
                </a:lnTo>
                <a:lnTo>
                  <a:pt x="1411" y="264"/>
                </a:lnTo>
                <a:lnTo>
                  <a:pt x="1411" y="267"/>
                </a:lnTo>
                <a:lnTo>
                  <a:pt x="1411" y="271"/>
                </a:lnTo>
                <a:lnTo>
                  <a:pt x="1410" y="274"/>
                </a:lnTo>
                <a:lnTo>
                  <a:pt x="1407" y="278"/>
                </a:lnTo>
                <a:lnTo>
                  <a:pt x="1403" y="283"/>
                </a:lnTo>
                <a:lnTo>
                  <a:pt x="1398" y="288"/>
                </a:lnTo>
                <a:lnTo>
                  <a:pt x="1393" y="294"/>
                </a:lnTo>
                <a:lnTo>
                  <a:pt x="1385" y="298"/>
                </a:lnTo>
                <a:lnTo>
                  <a:pt x="1378" y="304"/>
                </a:lnTo>
                <a:lnTo>
                  <a:pt x="1368" y="310"/>
                </a:lnTo>
                <a:lnTo>
                  <a:pt x="1358" y="317"/>
                </a:lnTo>
                <a:lnTo>
                  <a:pt x="1346" y="323"/>
                </a:lnTo>
                <a:lnTo>
                  <a:pt x="1334" y="330"/>
                </a:lnTo>
                <a:lnTo>
                  <a:pt x="1319" y="336"/>
                </a:lnTo>
                <a:lnTo>
                  <a:pt x="1303" y="343"/>
                </a:lnTo>
                <a:lnTo>
                  <a:pt x="1286" y="349"/>
                </a:lnTo>
                <a:lnTo>
                  <a:pt x="1269" y="356"/>
                </a:lnTo>
                <a:lnTo>
                  <a:pt x="1259" y="360"/>
                </a:lnTo>
                <a:lnTo>
                  <a:pt x="1249" y="363"/>
                </a:lnTo>
                <a:lnTo>
                  <a:pt x="1238" y="368"/>
                </a:lnTo>
                <a:lnTo>
                  <a:pt x="1228" y="373"/>
                </a:lnTo>
                <a:lnTo>
                  <a:pt x="1217" y="378"/>
                </a:lnTo>
                <a:lnTo>
                  <a:pt x="1207" y="383"/>
                </a:lnTo>
                <a:lnTo>
                  <a:pt x="1195" y="391"/>
                </a:lnTo>
                <a:lnTo>
                  <a:pt x="1184" y="396"/>
                </a:lnTo>
                <a:lnTo>
                  <a:pt x="1172" y="404"/>
                </a:lnTo>
                <a:lnTo>
                  <a:pt x="1161" y="411"/>
                </a:lnTo>
                <a:lnTo>
                  <a:pt x="1149" y="418"/>
                </a:lnTo>
                <a:lnTo>
                  <a:pt x="1138" y="427"/>
                </a:lnTo>
                <a:lnTo>
                  <a:pt x="1125" y="435"/>
                </a:lnTo>
                <a:lnTo>
                  <a:pt x="1113" y="444"/>
                </a:lnTo>
                <a:lnTo>
                  <a:pt x="1100" y="452"/>
                </a:lnTo>
                <a:lnTo>
                  <a:pt x="1089" y="463"/>
                </a:lnTo>
                <a:lnTo>
                  <a:pt x="1076" y="473"/>
                </a:lnTo>
                <a:lnTo>
                  <a:pt x="1063" y="484"/>
                </a:lnTo>
                <a:lnTo>
                  <a:pt x="1050" y="494"/>
                </a:lnTo>
                <a:lnTo>
                  <a:pt x="1038" y="506"/>
                </a:lnTo>
                <a:lnTo>
                  <a:pt x="1025" y="519"/>
                </a:lnTo>
                <a:lnTo>
                  <a:pt x="1011" y="530"/>
                </a:lnTo>
                <a:lnTo>
                  <a:pt x="998" y="543"/>
                </a:lnTo>
                <a:lnTo>
                  <a:pt x="985" y="556"/>
                </a:lnTo>
                <a:lnTo>
                  <a:pt x="972" y="569"/>
                </a:lnTo>
                <a:lnTo>
                  <a:pt x="959" y="583"/>
                </a:lnTo>
                <a:lnTo>
                  <a:pt x="946" y="598"/>
                </a:lnTo>
                <a:lnTo>
                  <a:pt x="932" y="614"/>
                </a:lnTo>
                <a:lnTo>
                  <a:pt x="919" y="628"/>
                </a:lnTo>
                <a:lnTo>
                  <a:pt x="906" y="644"/>
                </a:lnTo>
                <a:lnTo>
                  <a:pt x="893" y="660"/>
                </a:lnTo>
                <a:lnTo>
                  <a:pt x="880" y="677"/>
                </a:lnTo>
                <a:lnTo>
                  <a:pt x="866" y="696"/>
                </a:lnTo>
                <a:lnTo>
                  <a:pt x="854" y="713"/>
                </a:lnTo>
                <a:lnTo>
                  <a:pt x="841" y="730"/>
                </a:lnTo>
                <a:lnTo>
                  <a:pt x="830" y="748"/>
                </a:lnTo>
                <a:lnTo>
                  <a:pt x="818" y="763"/>
                </a:lnTo>
                <a:lnTo>
                  <a:pt x="807" y="779"/>
                </a:lnTo>
                <a:lnTo>
                  <a:pt x="795" y="794"/>
                </a:lnTo>
                <a:lnTo>
                  <a:pt x="785" y="808"/>
                </a:lnTo>
                <a:lnTo>
                  <a:pt x="774" y="822"/>
                </a:lnTo>
                <a:lnTo>
                  <a:pt x="763" y="835"/>
                </a:lnTo>
                <a:lnTo>
                  <a:pt x="755" y="848"/>
                </a:lnTo>
                <a:lnTo>
                  <a:pt x="745" y="861"/>
                </a:lnTo>
                <a:lnTo>
                  <a:pt x="736" y="873"/>
                </a:lnTo>
                <a:lnTo>
                  <a:pt x="727" y="884"/>
                </a:lnTo>
                <a:lnTo>
                  <a:pt x="719" y="894"/>
                </a:lnTo>
                <a:lnTo>
                  <a:pt x="712" y="904"/>
                </a:lnTo>
                <a:lnTo>
                  <a:pt x="704" y="915"/>
                </a:lnTo>
                <a:lnTo>
                  <a:pt x="697" y="925"/>
                </a:lnTo>
                <a:lnTo>
                  <a:pt x="690" y="933"/>
                </a:lnTo>
                <a:lnTo>
                  <a:pt x="684" y="940"/>
                </a:lnTo>
                <a:lnTo>
                  <a:pt x="677" y="949"/>
                </a:lnTo>
                <a:lnTo>
                  <a:pt x="671" y="955"/>
                </a:lnTo>
                <a:lnTo>
                  <a:pt x="667" y="962"/>
                </a:lnTo>
                <a:lnTo>
                  <a:pt x="661" y="968"/>
                </a:lnTo>
                <a:lnTo>
                  <a:pt x="657" y="974"/>
                </a:lnTo>
                <a:lnTo>
                  <a:pt x="653" y="979"/>
                </a:lnTo>
                <a:lnTo>
                  <a:pt x="648" y="984"/>
                </a:lnTo>
                <a:lnTo>
                  <a:pt x="645" y="987"/>
                </a:lnTo>
                <a:lnTo>
                  <a:pt x="643" y="991"/>
                </a:lnTo>
                <a:lnTo>
                  <a:pt x="640" y="994"/>
                </a:lnTo>
                <a:lnTo>
                  <a:pt x="637" y="997"/>
                </a:lnTo>
                <a:lnTo>
                  <a:pt x="635" y="998"/>
                </a:lnTo>
                <a:lnTo>
                  <a:pt x="631" y="1002"/>
                </a:lnTo>
                <a:lnTo>
                  <a:pt x="628" y="1005"/>
                </a:lnTo>
                <a:lnTo>
                  <a:pt x="627" y="1010"/>
                </a:lnTo>
                <a:lnTo>
                  <a:pt x="627" y="1014"/>
                </a:lnTo>
                <a:lnTo>
                  <a:pt x="627" y="1020"/>
                </a:lnTo>
                <a:lnTo>
                  <a:pt x="628" y="1025"/>
                </a:lnTo>
                <a:lnTo>
                  <a:pt x="631" y="1030"/>
                </a:lnTo>
                <a:lnTo>
                  <a:pt x="634" y="1036"/>
                </a:lnTo>
                <a:lnTo>
                  <a:pt x="638" y="1041"/>
                </a:lnTo>
                <a:lnTo>
                  <a:pt x="644" y="1048"/>
                </a:lnTo>
                <a:lnTo>
                  <a:pt x="650" y="1054"/>
                </a:lnTo>
                <a:lnTo>
                  <a:pt x="657" y="1061"/>
                </a:lnTo>
                <a:lnTo>
                  <a:pt x="666" y="1067"/>
                </a:lnTo>
                <a:lnTo>
                  <a:pt x="674" y="1074"/>
                </a:lnTo>
                <a:lnTo>
                  <a:pt x="684" y="1080"/>
                </a:lnTo>
                <a:lnTo>
                  <a:pt x="696" y="1087"/>
                </a:lnTo>
                <a:lnTo>
                  <a:pt x="702" y="1090"/>
                </a:lnTo>
                <a:lnTo>
                  <a:pt x="709" y="1095"/>
                </a:lnTo>
                <a:lnTo>
                  <a:pt x="714" y="1099"/>
                </a:lnTo>
                <a:lnTo>
                  <a:pt x="723" y="1103"/>
                </a:lnTo>
                <a:lnTo>
                  <a:pt x="730" y="1106"/>
                </a:lnTo>
                <a:lnTo>
                  <a:pt x="739" y="1112"/>
                </a:lnTo>
                <a:lnTo>
                  <a:pt x="748" y="1116"/>
                </a:lnTo>
                <a:lnTo>
                  <a:pt x="756" y="1120"/>
                </a:lnTo>
                <a:lnTo>
                  <a:pt x="766" y="1126"/>
                </a:lnTo>
                <a:lnTo>
                  <a:pt x="776" y="1132"/>
                </a:lnTo>
                <a:lnTo>
                  <a:pt x="786" y="1138"/>
                </a:lnTo>
                <a:lnTo>
                  <a:pt x="797" y="1143"/>
                </a:lnTo>
                <a:lnTo>
                  <a:pt x="808" y="1149"/>
                </a:lnTo>
                <a:lnTo>
                  <a:pt x="820" y="1155"/>
                </a:lnTo>
                <a:lnTo>
                  <a:pt x="833" y="1162"/>
                </a:lnTo>
                <a:lnTo>
                  <a:pt x="844" y="1169"/>
                </a:lnTo>
                <a:lnTo>
                  <a:pt x="870" y="1184"/>
                </a:lnTo>
                <a:lnTo>
                  <a:pt x="897" y="1200"/>
                </a:lnTo>
                <a:lnTo>
                  <a:pt x="925" y="1217"/>
                </a:lnTo>
                <a:lnTo>
                  <a:pt x="955" y="1234"/>
                </a:lnTo>
                <a:lnTo>
                  <a:pt x="985" y="1254"/>
                </a:lnTo>
                <a:lnTo>
                  <a:pt x="1017" y="1274"/>
                </a:lnTo>
                <a:lnTo>
                  <a:pt x="1050" y="1296"/>
                </a:lnTo>
                <a:lnTo>
                  <a:pt x="1084" y="1319"/>
                </a:lnTo>
                <a:lnTo>
                  <a:pt x="1118" y="1344"/>
                </a:lnTo>
                <a:lnTo>
                  <a:pt x="1149" y="1368"/>
                </a:lnTo>
                <a:lnTo>
                  <a:pt x="1181" y="1394"/>
                </a:lnTo>
                <a:lnTo>
                  <a:pt x="1210" y="1420"/>
                </a:lnTo>
                <a:lnTo>
                  <a:pt x="1238" y="1446"/>
                </a:lnTo>
                <a:lnTo>
                  <a:pt x="1264" y="1473"/>
                </a:lnTo>
                <a:lnTo>
                  <a:pt x="1290" y="1500"/>
                </a:lnTo>
                <a:lnTo>
                  <a:pt x="1313" y="1529"/>
                </a:lnTo>
                <a:lnTo>
                  <a:pt x="1325" y="1544"/>
                </a:lnTo>
                <a:lnTo>
                  <a:pt x="1336" y="1558"/>
                </a:lnTo>
                <a:lnTo>
                  <a:pt x="1346" y="1572"/>
                </a:lnTo>
                <a:lnTo>
                  <a:pt x="1358" y="1587"/>
                </a:lnTo>
                <a:lnTo>
                  <a:pt x="1367" y="1601"/>
                </a:lnTo>
                <a:lnTo>
                  <a:pt x="1377" y="1616"/>
                </a:lnTo>
                <a:lnTo>
                  <a:pt x="1387" y="1630"/>
                </a:lnTo>
                <a:lnTo>
                  <a:pt x="1395" y="1646"/>
                </a:lnTo>
                <a:lnTo>
                  <a:pt x="1404" y="1660"/>
                </a:lnTo>
                <a:lnTo>
                  <a:pt x="1411" y="1675"/>
                </a:lnTo>
                <a:lnTo>
                  <a:pt x="1420" y="1691"/>
                </a:lnTo>
                <a:lnTo>
                  <a:pt x="1427" y="1705"/>
                </a:lnTo>
                <a:lnTo>
                  <a:pt x="1434" y="1721"/>
                </a:lnTo>
                <a:lnTo>
                  <a:pt x="1440" y="1735"/>
                </a:lnTo>
                <a:lnTo>
                  <a:pt x="1446" y="1751"/>
                </a:lnTo>
                <a:lnTo>
                  <a:pt x="1453" y="1765"/>
                </a:lnTo>
                <a:lnTo>
                  <a:pt x="1463" y="1798"/>
                </a:lnTo>
                <a:lnTo>
                  <a:pt x="1467" y="1816"/>
                </a:lnTo>
                <a:lnTo>
                  <a:pt x="1472" y="1832"/>
                </a:lnTo>
                <a:lnTo>
                  <a:pt x="1476" y="1847"/>
                </a:lnTo>
                <a:lnTo>
                  <a:pt x="1479" y="1863"/>
                </a:lnTo>
                <a:lnTo>
                  <a:pt x="1483" y="1881"/>
                </a:lnTo>
                <a:lnTo>
                  <a:pt x="1486" y="1896"/>
                </a:lnTo>
                <a:lnTo>
                  <a:pt x="1488" y="1912"/>
                </a:lnTo>
                <a:lnTo>
                  <a:pt x="1490" y="1928"/>
                </a:lnTo>
                <a:lnTo>
                  <a:pt x="1492" y="1944"/>
                </a:lnTo>
                <a:lnTo>
                  <a:pt x="1493" y="1960"/>
                </a:lnTo>
                <a:lnTo>
                  <a:pt x="1495" y="1974"/>
                </a:lnTo>
                <a:lnTo>
                  <a:pt x="1495" y="1990"/>
                </a:lnTo>
                <a:lnTo>
                  <a:pt x="1495" y="2006"/>
                </a:lnTo>
                <a:lnTo>
                  <a:pt x="1495" y="2022"/>
                </a:lnTo>
                <a:lnTo>
                  <a:pt x="1493" y="2036"/>
                </a:lnTo>
                <a:lnTo>
                  <a:pt x="1493" y="2052"/>
                </a:lnTo>
                <a:lnTo>
                  <a:pt x="1492" y="2068"/>
                </a:lnTo>
                <a:lnTo>
                  <a:pt x="1489" y="2082"/>
                </a:lnTo>
                <a:lnTo>
                  <a:pt x="1488" y="2098"/>
                </a:lnTo>
                <a:lnTo>
                  <a:pt x="1485" y="2114"/>
                </a:lnTo>
                <a:lnTo>
                  <a:pt x="1480" y="2128"/>
                </a:lnTo>
                <a:lnTo>
                  <a:pt x="1477" y="2144"/>
                </a:lnTo>
                <a:lnTo>
                  <a:pt x="1473" y="2158"/>
                </a:lnTo>
                <a:lnTo>
                  <a:pt x="1469" y="2174"/>
                </a:lnTo>
                <a:lnTo>
                  <a:pt x="1463" y="2189"/>
                </a:lnTo>
                <a:lnTo>
                  <a:pt x="1457" y="2204"/>
                </a:lnTo>
                <a:lnTo>
                  <a:pt x="1452" y="2219"/>
                </a:lnTo>
                <a:lnTo>
                  <a:pt x="1446" y="2235"/>
                </a:lnTo>
                <a:lnTo>
                  <a:pt x="1439" y="2249"/>
                </a:lnTo>
                <a:lnTo>
                  <a:pt x="1431" y="2265"/>
                </a:lnTo>
                <a:lnTo>
                  <a:pt x="1423" y="2279"/>
                </a:lnTo>
                <a:lnTo>
                  <a:pt x="1413" y="2294"/>
                </a:lnTo>
                <a:lnTo>
                  <a:pt x="1404" y="2307"/>
                </a:lnTo>
                <a:lnTo>
                  <a:pt x="1395" y="2321"/>
                </a:lnTo>
                <a:lnTo>
                  <a:pt x="1387" y="2334"/>
                </a:lnTo>
                <a:lnTo>
                  <a:pt x="1378" y="2346"/>
                </a:lnTo>
                <a:lnTo>
                  <a:pt x="1371" y="2357"/>
                </a:lnTo>
                <a:lnTo>
                  <a:pt x="1362" y="2369"/>
                </a:lnTo>
                <a:lnTo>
                  <a:pt x="1355" y="2380"/>
                </a:lnTo>
                <a:lnTo>
                  <a:pt x="1348" y="2390"/>
                </a:lnTo>
                <a:lnTo>
                  <a:pt x="1341" y="2399"/>
                </a:lnTo>
                <a:lnTo>
                  <a:pt x="1334" y="2409"/>
                </a:lnTo>
                <a:lnTo>
                  <a:pt x="1326" y="2418"/>
                </a:lnTo>
                <a:lnTo>
                  <a:pt x="1319" y="2426"/>
                </a:lnTo>
                <a:lnTo>
                  <a:pt x="1313" y="2433"/>
                </a:lnTo>
                <a:lnTo>
                  <a:pt x="1306" y="2441"/>
                </a:lnTo>
                <a:lnTo>
                  <a:pt x="1300" y="2448"/>
                </a:lnTo>
                <a:lnTo>
                  <a:pt x="1295" y="2454"/>
                </a:lnTo>
                <a:lnTo>
                  <a:pt x="1289" y="2459"/>
                </a:lnTo>
                <a:lnTo>
                  <a:pt x="1283" y="2465"/>
                </a:lnTo>
                <a:lnTo>
                  <a:pt x="1277" y="2471"/>
                </a:lnTo>
                <a:lnTo>
                  <a:pt x="1272" y="2475"/>
                </a:lnTo>
                <a:lnTo>
                  <a:pt x="1267" y="2479"/>
                </a:lnTo>
                <a:lnTo>
                  <a:pt x="1262" y="2482"/>
                </a:lnTo>
                <a:lnTo>
                  <a:pt x="1257" y="2485"/>
                </a:lnTo>
                <a:lnTo>
                  <a:pt x="1253" y="2488"/>
                </a:lnTo>
                <a:lnTo>
                  <a:pt x="1249" y="2491"/>
                </a:lnTo>
                <a:lnTo>
                  <a:pt x="1243" y="2492"/>
                </a:lnTo>
                <a:lnTo>
                  <a:pt x="1238" y="2494"/>
                </a:lnTo>
                <a:lnTo>
                  <a:pt x="1236" y="2495"/>
                </a:lnTo>
                <a:lnTo>
                  <a:pt x="1231" y="2495"/>
                </a:lnTo>
                <a:lnTo>
                  <a:pt x="1227" y="2497"/>
                </a:lnTo>
                <a:lnTo>
                  <a:pt x="1220" y="2500"/>
                </a:lnTo>
                <a:lnTo>
                  <a:pt x="1211" y="2501"/>
                </a:lnTo>
                <a:lnTo>
                  <a:pt x="1204" y="2501"/>
                </a:lnTo>
                <a:lnTo>
                  <a:pt x="1197" y="2500"/>
                </a:lnTo>
                <a:lnTo>
                  <a:pt x="1188" y="2498"/>
                </a:lnTo>
                <a:lnTo>
                  <a:pt x="1179" y="2494"/>
                </a:lnTo>
                <a:lnTo>
                  <a:pt x="1171" y="2490"/>
                </a:lnTo>
                <a:lnTo>
                  <a:pt x="1164" y="2484"/>
                </a:lnTo>
                <a:lnTo>
                  <a:pt x="1154" y="2477"/>
                </a:lnTo>
                <a:lnTo>
                  <a:pt x="1145" y="2468"/>
                </a:lnTo>
                <a:lnTo>
                  <a:pt x="1136" y="2458"/>
                </a:lnTo>
                <a:lnTo>
                  <a:pt x="1126" y="2446"/>
                </a:lnTo>
                <a:lnTo>
                  <a:pt x="1116" y="2433"/>
                </a:lnTo>
                <a:lnTo>
                  <a:pt x="1106" y="2420"/>
                </a:lnTo>
                <a:lnTo>
                  <a:pt x="1095" y="2406"/>
                </a:lnTo>
                <a:lnTo>
                  <a:pt x="1084" y="23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7"/>
          <p:cNvSpPr/>
          <p:nvPr/>
        </p:nvSpPr>
        <p:spPr>
          <a:xfrm>
            <a:off x="5981760" y="3317760"/>
            <a:ext cx="779400" cy="301680"/>
          </a:xfrm>
          <a:custGeom>
            <a:avLst/>
            <a:gdLst/>
            <a:ahLst/>
            <a:rect l="l" t="t" r="r" b="b"/>
            <a:pathLst>
              <a:path w="1473" h="571">
                <a:moveTo>
                  <a:pt x="1411" y="232"/>
                </a:moveTo>
                <a:lnTo>
                  <a:pt x="1407" y="232"/>
                </a:lnTo>
                <a:lnTo>
                  <a:pt x="1402" y="232"/>
                </a:lnTo>
                <a:lnTo>
                  <a:pt x="1397" y="234"/>
                </a:lnTo>
                <a:lnTo>
                  <a:pt x="1392" y="237"/>
                </a:lnTo>
                <a:lnTo>
                  <a:pt x="1387" y="239"/>
                </a:lnTo>
                <a:lnTo>
                  <a:pt x="1381" y="242"/>
                </a:lnTo>
                <a:lnTo>
                  <a:pt x="1375" y="247"/>
                </a:lnTo>
                <a:lnTo>
                  <a:pt x="1368" y="251"/>
                </a:lnTo>
                <a:lnTo>
                  <a:pt x="1361" y="257"/>
                </a:lnTo>
                <a:lnTo>
                  <a:pt x="1354" y="262"/>
                </a:lnTo>
                <a:lnTo>
                  <a:pt x="1345" y="270"/>
                </a:lnTo>
                <a:lnTo>
                  <a:pt x="1338" y="277"/>
                </a:lnTo>
                <a:lnTo>
                  <a:pt x="1329" y="285"/>
                </a:lnTo>
                <a:lnTo>
                  <a:pt x="1319" y="294"/>
                </a:lnTo>
                <a:lnTo>
                  <a:pt x="1310" y="303"/>
                </a:lnTo>
                <a:lnTo>
                  <a:pt x="1300" y="313"/>
                </a:lnTo>
                <a:lnTo>
                  <a:pt x="1290" y="324"/>
                </a:lnTo>
                <a:lnTo>
                  <a:pt x="1279" y="336"/>
                </a:lnTo>
                <a:lnTo>
                  <a:pt x="1269" y="347"/>
                </a:lnTo>
                <a:lnTo>
                  <a:pt x="1257" y="360"/>
                </a:lnTo>
                <a:lnTo>
                  <a:pt x="1244" y="373"/>
                </a:lnTo>
                <a:lnTo>
                  <a:pt x="1233" y="388"/>
                </a:lnTo>
                <a:lnTo>
                  <a:pt x="1220" y="404"/>
                </a:lnTo>
                <a:lnTo>
                  <a:pt x="1205" y="419"/>
                </a:lnTo>
                <a:lnTo>
                  <a:pt x="1192" y="435"/>
                </a:lnTo>
                <a:lnTo>
                  <a:pt x="1178" y="452"/>
                </a:lnTo>
                <a:lnTo>
                  <a:pt x="1164" y="470"/>
                </a:lnTo>
                <a:lnTo>
                  <a:pt x="1148" y="488"/>
                </a:lnTo>
                <a:lnTo>
                  <a:pt x="1133" y="509"/>
                </a:lnTo>
                <a:lnTo>
                  <a:pt x="1117" y="529"/>
                </a:lnTo>
                <a:lnTo>
                  <a:pt x="1100" y="549"/>
                </a:lnTo>
                <a:lnTo>
                  <a:pt x="1084" y="571"/>
                </a:lnTo>
                <a:lnTo>
                  <a:pt x="1002" y="571"/>
                </a:lnTo>
                <a:lnTo>
                  <a:pt x="920" y="571"/>
                </a:lnTo>
                <a:lnTo>
                  <a:pt x="935" y="548"/>
                </a:lnTo>
                <a:lnTo>
                  <a:pt x="949" y="524"/>
                </a:lnTo>
                <a:lnTo>
                  <a:pt x="962" y="504"/>
                </a:lnTo>
                <a:lnTo>
                  <a:pt x="973" y="483"/>
                </a:lnTo>
                <a:lnTo>
                  <a:pt x="985" y="464"/>
                </a:lnTo>
                <a:lnTo>
                  <a:pt x="995" y="444"/>
                </a:lnTo>
                <a:lnTo>
                  <a:pt x="1004" y="427"/>
                </a:lnTo>
                <a:lnTo>
                  <a:pt x="1012" y="409"/>
                </a:lnTo>
                <a:lnTo>
                  <a:pt x="1020" y="393"/>
                </a:lnTo>
                <a:lnTo>
                  <a:pt x="1025" y="378"/>
                </a:lnTo>
                <a:lnTo>
                  <a:pt x="1031" y="363"/>
                </a:lnTo>
                <a:lnTo>
                  <a:pt x="1035" y="349"/>
                </a:lnTo>
                <a:lnTo>
                  <a:pt x="1038" y="336"/>
                </a:lnTo>
                <a:lnTo>
                  <a:pt x="1041" y="324"/>
                </a:lnTo>
                <a:lnTo>
                  <a:pt x="1043" y="313"/>
                </a:lnTo>
                <a:lnTo>
                  <a:pt x="1043" y="303"/>
                </a:lnTo>
                <a:lnTo>
                  <a:pt x="1043" y="293"/>
                </a:lnTo>
                <a:lnTo>
                  <a:pt x="1043" y="284"/>
                </a:lnTo>
                <a:lnTo>
                  <a:pt x="1043" y="275"/>
                </a:lnTo>
                <a:lnTo>
                  <a:pt x="1043" y="268"/>
                </a:lnTo>
                <a:lnTo>
                  <a:pt x="1043" y="262"/>
                </a:lnTo>
                <a:lnTo>
                  <a:pt x="1041" y="255"/>
                </a:lnTo>
                <a:lnTo>
                  <a:pt x="1041" y="250"/>
                </a:lnTo>
                <a:lnTo>
                  <a:pt x="1040" y="245"/>
                </a:lnTo>
                <a:lnTo>
                  <a:pt x="1040" y="239"/>
                </a:lnTo>
                <a:lnTo>
                  <a:pt x="1038" y="235"/>
                </a:lnTo>
                <a:lnTo>
                  <a:pt x="1034" y="228"/>
                </a:lnTo>
                <a:lnTo>
                  <a:pt x="1033" y="224"/>
                </a:lnTo>
                <a:lnTo>
                  <a:pt x="1030" y="221"/>
                </a:lnTo>
                <a:lnTo>
                  <a:pt x="1025" y="216"/>
                </a:lnTo>
                <a:lnTo>
                  <a:pt x="1022" y="214"/>
                </a:lnTo>
                <a:lnTo>
                  <a:pt x="1020" y="212"/>
                </a:lnTo>
                <a:lnTo>
                  <a:pt x="1018" y="211"/>
                </a:lnTo>
                <a:lnTo>
                  <a:pt x="1014" y="209"/>
                </a:lnTo>
                <a:lnTo>
                  <a:pt x="1009" y="208"/>
                </a:lnTo>
                <a:lnTo>
                  <a:pt x="1005" y="208"/>
                </a:lnTo>
                <a:lnTo>
                  <a:pt x="1001" y="206"/>
                </a:lnTo>
                <a:lnTo>
                  <a:pt x="995" y="206"/>
                </a:lnTo>
                <a:lnTo>
                  <a:pt x="989" y="206"/>
                </a:lnTo>
                <a:lnTo>
                  <a:pt x="982" y="206"/>
                </a:lnTo>
                <a:lnTo>
                  <a:pt x="975" y="206"/>
                </a:lnTo>
                <a:lnTo>
                  <a:pt x="966" y="206"/>
                </a:lnTo>
                <a:lnTo>
                  <a:pt x="959" y="206"/>
                </a:lnTo>
                <a:lnTo>
                  <a:pt x="950" y="206"/>
                </a:lnTo>
                <a:lnTo>
                  <a:pt x="940" y="208"/>
                </a:lnTo>
                <a:lnTo>
                  <a:pt x="930" y="208"/>
                </a:lnTo>
                <a:lnTo>
                  <a:pt x="920" y="209"/>
                </a:lnTo>
                <a:lnTo>
                  <a:pt x="910" y="209"/>
                </a:lnTo>
                <a:lnTo>
                  <a:pt x="899" y="211"/>
                </a:lnTo>
                <a:lnTo>
                  <a:pt x="887" y="212"/>
                </a:lnTo>
                <a:lnTo>
                  <a:pt x="874" y="214"/>
                </a:lnTo>
                <a:lnTo>
                  <a:pt x="861" y="214"/>
                </a:lnTo>
                <a:lnTo>
                  <a:pt x="848" y="215"/>
                </a:lnTo>
                <a:lnTo>
                  <a:pt x="835" y="216"/>
                </a:lnTo>
                <a:lnTo>
                  <a:pt x="821" y="218"/>
                </a:lnTo>
                <a:lnTo>
                  <a:pt x="806" y="219"/>
                </a:lnTo>
                <a:lnTo>
                  <a:pt x="792" y="221"/>
                </a:lnTo>
                <a:lnTo>
                  <a:pt x="776" y="224"/>
                </a:lnTo>
                <a:lnTo>
                  <a:pt x="760" y="225"/>
                </a:lnTo>
                <a:lnTo>
                  <a:pt x="745" y="226"/>
                </a:lnTo>
                <a:lnTo>
                  <a:pt x="729" y="228"/>
                </a:lnTo>
                <a:lnTo>
                  <a:pt x="711" y="229"/>
                </a:lnTo>
                <a:lnTo>
                  <a:pt x="696" y="232"/>
                </a:lnTo>
                <a:lnTo>
                  <a:pt x="657" y="238"/>
                </a:lnTo>
                <a:lnTo>
                  <a:pt x="618" y="245"/>
                </a:lnTo>
                <a:lnTo>
                  <a:pt x="578" y="251"/>
                </a:lnTo>
                <a:lnTo>
                  <a:pt x="537" y="258"/>
                </a:lnTo>
                <a:lnTo>
                  <a:pt x="497" y="264"/>
                </a:lnTo>
                <a:lnTo>
                  <a:pt x="455" y="271"/>
                </a:lnTo>
                <a:lnTo>
                  <a:pt x="413" y="277"/>
                </a:lnTo>
                <a:lnTo>
                  <a:pt x="370" y="283"/>
                </a:lnTo>
                <a:lnTo>
                  <a:pt x="327" y="288"/>
                </a:lnTo>
                <a:lnTo>
                  <a:pt x="282" y="294"/>
                </a:lnTo>
                <a:lnTo>
                  <a:pt x="238" y="298"/>
                </a:lnTo>
                <a:lnTo>
                  <a:pt x="192" y="304"/>
                </a:lnTo>
                <a:lnTo>
                  <a:pt x="146" y="309"/>
                </a:lnTo>
                <a:lnTo>
                  <a:pt x="98" y="313"/>
                </a:lnTo>
                <a:lnTo>
                  <a:pt x="49" y="317"/>
                </a:lnTo>
                <a:lnTo>
                  <a:pt x="0" y="321"/>
                </a:lnTo>
                <a:lnTo>
                  <a:pt x="0" y="196"/>
                </a:lnTo>
                <a:lnTo>
                  <a:pt x="31" y="193"/>
                </a:lnTo>
                <a:lnTo>
                  <a:pt x="61" y="192"/>
                </a:lnTo>
                <a:lnTo>
                  <a:pt x="91" y="189"/>
                </a:lnTo>
                <a:lnTo>
                  <a:pt x="120" y="188"/>
                </a:lnTo>
                <a:lnTo>
                  <a:pt x="149" y="185"/>
                </a:lnTo>
                <a:lnTo>
                  <a:pt x="177" y="182"/>
                </a:lnTo>
                <a:lnTo>
                  <a:pt x="206" y="179"/>
                </a:lnTo>
                <a:lnTo>
                  <a:pt x="234" y="176"/>
                </a:lnTo>
                <a:lnTo>
                  <a:pt x="261" y="173"/>
                </a:lnTo>
                <a:lnTo>
                  <a:pt x="288" y="169"/>
                </a:lnTo>
                <a:lnTo>
                  <a:pt x="316" y="166"/>
                </a:lnTo>
                <a:lnTo>
                  <a:pt x="342" y="163"/>
                </a:lnTo>
                <a:lnTo>
                  <a:pt x="367" y="159"/>
                </a:lnTo>
                <a:lnTo>
                  <a:pt x="393" y="154"/>
                </a:lnTo>
                <a:lnTo>
                  <a:pt x="418" y="150"/>
                </a:lnTo>
                <a:lnTo>
                  <a:pt x="442" y="147"/>
                </a:lnTo>
                <a:lnTo>
                  <a:pt x="467" y="143"/>
                </a:lnTo>
                <a:lnTo>
                  <a:pt x="490" y="139"/>
                </a:lnTo>
                <a:lnTo>
                  <a:pt x="514" y="134"/>
                </a:lnTo>
                <a:lnTo>
                  <a:pt x="537" y="130"/>
                </a:lnTo>
                <a:lnTo>
                  <a:pt x="559" y="124"/>
                </a:lnTo>
                <a:lnTo>
                  <a:pt x="582" y="120"/>
                </a:lnTo>
                <a:lnTo>
                  <a:pt x="604" y="116"/>
                </a:lnTo>
                <a:lnTo>
                  <a:pt x="624" y="111"/>
                </a:lnTo>
                <a:lnTo>
                  <a:pt x="645" y="106"/>
                </a:lnTo>
                <a:lnTo>
                  <a:pt x="665" y="101"/>
                </a:lnTo>
                <a:lnTo>
                  <a:pt x="686" y="95"/>
                </a:lnTo>
                <a:lnTo>
                  <a:pt x="704" y="91"/>
                </a:lnTo>
                <a:lnTo>
                  <a:pt x="723" y="87"/>
                </a:lnTo>
                <a:lnTo>
                  <a:pt x="742" y="81"/>
                </a:lnTo>
                <a:lnTo>
                  <a:pt x="759" y="77"/>
                </a:lnTo>
                <a:lnTo>
                  <a:pt x="778" y="71"/>
                </a:lnTo>
                <a:lnTo>
                  <a:pt x="794" y="67"/>
                </a:lnTo>
                <a:lnTo>
                  <a:pt x="811" y="61"/>
                </a:lnTo>
                <a:lnTo>
                  <a:pt x="827" y="57"/>
                </a:lnTo>
                <a:lnTo>
                  <a:pt x="842" y="52"/>
                </a:lnTo>
                <a:lnTo>
                  <a:pt x="857" y="48"/>
                </a:lnTo>
                <a:lnTo>
                  <a:pt x="871" y="44"/>
                </a:lnTo>
                <a:lnTo>
                  <a:pt x="886" y="41"/>
                </a:lnTo>
                <a:lnTo>
                  <a:pt x="900" y="36"/>
                </a:lnTo>
                <a:lnTo>
                  <a:pt x="913" y="34"/>
                </a:lnTo>
                <a:lnTo>
                  <a:pt x="926" y="31"/>
                </a:lnTo>
                <a:lnTo>
                  <a:pt x="939" y="28"/>
                </a:lnTo>
                <a:lnTo>
                  <a:pt x="950" y="25"/>
                </a:lnTo>
                <a:lnTo>
                  <a:pt x="962" y="22"/>
                </a:lnTo>
                <a:lnTo>
                  <a:pt x="973" y="19"/>
                </a:lnTo>
                <a:lnTo>
                  <a:pt x="984" y="18"/>
                </a:lnTo>
                <a:lnTo>
                  <a:pt x="994" y="15"/>
                </a:lnTo>
                <a:lnTo>
                  <a:pt x="1004" y="13"/>
                </a:lnTo>
                <a:lnTo>
                  <a:pt x="1014" y="11"/>
                </a:lnTo>
                <a:lnTo>
                  <a:pt x="1022" y="9"/>
                </a:lnTo>
                <a:lnTo>
                  <a:pt x="1031" y="8"/>
                </a:lnTo>
                <a:lnTo>
                  <a:pt x="1040" y="6"/>
                </a:lnTo>
                <a:lnTo>
                  <a:pt x="1047" y="5"/>
                </a:lnTo>
                <a:lnTo>
                  <a:pt x="1054" y="5"/>
                </a:lnTo>
                <a:lnTo>
                  <a:pt x="1061" y="3"/>
                </a:lnTo>
                <a:lnTo>
                  <a:pt x="1068" y="2"/>
                </a:lnTo>
                <a:lnTo>
                  <a:pt x="1074" y="2"/>
                </a:lnTo>
                <a:lnTo>
                  <a:pt x="1080" y="0"/>
                </a:lnTo>
                <a:lnTo>
                  <a:pt x="1086" y="0"/>
                </a:lnTo>
                <a:lnTo>
                  <a:pt x="1090" y="0"/>
                </a:lnTo>
                <a:lnTo>
                  <a:pt x="1096" y="0"/>
                </a:lnTo>
                <a:lnTo>
                  <a:pt x="1100" y="0"/>
                </a:lnTo>
                <a:lnTo>
                  <a:pt x="1104" y="0"/>
                </a:lnTo>
                <a:lnTo>
                  <a:pt x="1109" y="0"/>
                </a:lnTo>
                <a:lnTo>
                  <a:pt x="1115" y="0"/>
                </a:lnTo>
                <a:lnTo>
                  <a:pt x="1122" y="2"/>
                </a:lnTo>
                <a:lnTo>
                  <a:pt x="1130" y="3"/>
                </a:lnTo>
                <a:lnTo>
                  <a:pt x="1140" y="5"/>
                </a:lnTo>
                <a:lnTo>
                  <a:pt x="1151" y="8"/>
                </a:lnTo>
                <a:lnTo>
                  <a:pt x="1164" y="11"/>
                </a:lnTo>
                <a:lnTo>
                  <a:pt x="1176" y="15"/>
                </a:lnTo>
                <a:lnTo>
                  <a:pt x="1189" y="19"/>
                </a:lnTo>
                <a:lnTo>
                  <a:pt x="1204" y="25"/>
                </a:lnTo>
                <a:lnTo>
                  <a:pt x="1220" y="31"/>
                </a:lnTo>
                <a:lnTo>
                  <a:pt x="1237" y="36"/>
                </a:lnTo>
                <a:lnTo>
                  <a:pt x="1253" y="44"/>
                </a:lnTo>
                <a:lnTo>
                  <a:pt x="1271" y="52"/>
                </a:lnTo>
                <a:lnTo>
                  <a:pt x="1289" y="61"/>
                </a:lnTo>
                <a:lnTo>
                  <a:pt x="1309" y="71"/>
                </a:lnTo>
                <a:lnTo>
                  <a:pt x="1328" y="81"/>
                </a:lnTo>
                <a:lnTo>
                  <a:pt x="1345" y="90"/>
                </a:lnTo>
                <a:lnTo>
                  <a:pt x="1361" y="100"/>
                </a:lnTo>
                <a:lnTo>
                  <a:pt x="1377" y="108"/>
                </a:lnTo>
                <a:lnTo>
                  <a:pt x="1391" y="116"/>
                </a:lnTo>
                <a:lnTo>
                  <a:pt x="1405" y="124"/>
                </a:lnTo>
                <a:lnTo>
                  <a:pt x="1417" y="131"/>
                </a:lnTo>
                <a:lnTo>
                  <a:pt x="1428" y="139"/>
                </a:lnTo>
                <a:lnTo>
                  <a:pt x="1438" y="144"/>
                </a:lnTo>
                <a:lnTo>
                  <a:pt x="1447" y="150"/>
                </a:lnTo>
                <a:lnTo>
                  <a:pt x="1454" y="156"/>
                </a:lnTo>
                <a:lnTo>
                  <a:pt x="1462" y="162"/>
                </a:lnTo>
                <a:lnTo>
                  <a:pt x="1466" y="166"/>
                </a:lnTo>
                <a:lnTo>
                  <a:pt x="1470" y="170"/>
                </a:lnTo>
                <a:lnTo>
                  <a:pt x="1472" y="175"/>
                </a:lnTo>
                <a:lnTo>
                  <a:pt x="1472" y="176"/>
                </a:lnTo>
                <a:lnTo>
                  <a:pt x="1473" y="178"/>
                </a:lnTo>
                <a:lnTo>
                  <a:pt x="1472" y="185"/>
                </a:lnTo>
                <a:lnTo>
                  <a:pt x="1472" y="190"/>
                </a:lnTo>
                <a:lnTo>
                  <a:pt x="1470" y="196"/>
                </a:lnTo>
                <a:lnTo>
                  <a:pt x="1469" y="201"/>
                </a:lnTo>
                <a:lnTo>
                  <a:pt x="1466" y="206"/>
                </a:lnTo>
                <a:lnTo>
                  <a:pt x="1463" y="211"/>
                </a:lnTo>
                <a:lnTo>
                  <a:pt x="1460" y="215"/>
                </a:lnTo>
                <a:lnTo>
                  <a:pt x="1457" y="218"/>
                </a:lnTo>
                <a:lnTo>
                  <a:pt x="1453" y="221"/>
                </a:lnTo>
                <a:lnTo>
                  <a:pt x="1449" y="224"/>
                </a:lnTo>
                <a:lnTo>
                  <a:pt x="1443" y="226"/>
                </a:lnTo>
                <a:lnTo>
                  <a:pt x="1437" y="228"/>
                </a:lnTo>
                <a:lnTo>
                  <a:pt x="1431" y="229"/>
                </a:lnTo>
                <a:lnTo>
                  <a:pt x="1426" y="231"/>
                </a:lnTo>
                <a:lnTo>
                  <a:pt x="1418" y="231"/>
                </a:lnTo>
                <a:lnTo>
                  <a:pt x="1411" y="2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88"/>
          <p:cNvSpPr/>
          <p:nvPr/>
        </p:nvSpPr>
        <p:spPr>
          <a:xfrm>
            <a:off x="5880240" y="3414600"/>
            <a:ext cx="255600" cy="320760"/>
          </a:xfrm>
          <a:custGeom>
            <a:avLst/>
            <a:gdLst/>
            <a:ahLst/>
            <a:rect l="l" t="t" r="r" b="b"/>
            <a:pathLst>
              <a:path w="481" h="605">
                <a:moveTo>
                  <a:pt x="69" y="138"/>
                </a:moveTo>
                <a:lnTo>
                  <a:pt x="57" y="134"/>
                </a:lnTo>
                <a:lnTo>
                  <a:pt x="47" y="130"/>
                </a:lnTo>
                <a:lnTo>
                  <a:pt x="39" y="126"/>
                </a:lnTo>
                <a:lnTo>
                  <a:pt x="30" y="121"/>
                </a:lnTo>
                <a:lnTo>
                  <a:pt x="23" y="115"/>
                </a:lnTo>
                <a:lnTo>
                  <a:pt x="17" y="110"/>
                </a:lnTo>
                <a:lnTo>
                  <a:pt x="11" y="104"/>
                </a:lnTo>
                <a:lnTo>
                  <a:pt x="7" y="97"/>
                </a:lnTo>
                <a:lnTo>
                  <a:pt x="4" y="90"/>
                </a:lnTo>
                <a:lnTo>
                  <a:pt x="1" y="82"/>
                </a:lnTo>
                <a:lnTo>
                  <a:pt x="0" y="75"/>
                </a:lnTo>
                <a:lnTo>
                  <a:pt x="0" y="67"/>
                </a:lnTo>
                <a:lnTo>
                  <a:pt x="0" y="59"/>
                </a:lnTo>
                <a:lnTo>
                  <a:pt x="1" y="49"/>
                </a:lnTo>
                <a:lnTo>
                  <a:pt x="4" y="41"/>
                </a:lnTo>
                <a:lnTo>
                  <a:pt x="7" y="31"/>
                </a:lnTo>
                <a:lnTo>
                  <a:pt x="7" y="28"/>
                </a:lnTo>
                <a:lnTo>
                  <a:pt x="9" y="25"/>
                </a:lnTo>
                <a:lnTo>
                  <a:pt x="10" y="22"/>
                </a:lnTo>
                <a:lnTo>
                  <a:pt x="11" y="19"/>
                </a:lnTo>
                <a:lnTo>
                  <a:pt x="14" y="16"/>
                </a:lnTo>
                <a:lnTo>
                  <a:pt x="19" y="15"/>
                </a:lnTo>
                <a:lnTo>
                  <a:pt x="21" y="12"/>
                </a:lnTo>
                <a:lnTo>
                  <a:pt x="26" y="10"/>
                </a:lnTo>
                <a:lnTo>
                  <a:pt x="32" y="9"/>
                </a:lnTo>
                <a:lnTo>
                  <a:pt x="37" y="7"/>
                </a:lnTo>
                <a:lnTo>
                  <a:pt x="43" y="6"/>
                </a:lnTo>
                <a:lnTo>
                  <a:pt x="50" y="5"/>
                </a:lnTo>
                <a:lnTo>
                  <a:pt x="57" y="3"/>
                </a:lnTo>
                <a:lnTo>
                  <a:pt x="66" y="3"/>
                </a:lnTo>
                <a:lnTo>
                  <a:pt x="75" y="2"/>
                </a:lnTo>
                <a:lnTo>
                  <a:pt x="83" y="2"/>
                </a:lnTo>
                <a:lnTo>
                  <a:pt x="93" y="0"/>
                </a:lnTo>
                <a:lnTo>
                  <a:pt x="104" y="0"/>
                </a:lnTo>
                <a:lnTo>
                  <a:pt x="115" y="0"/>
                </a:lnTo>
                <a:lnTo>
                  <a:pt x="127" y="0"/>
                </a:lnTo>
                <a:lnTo>
                  <a:pt x="140" y="2"/>
                </a:lnTo>
                <a:lnTo>
                  <a:pt x="152" y="2"/>
                </a:lnTo>
                <a:lnTo>
                  <a:pt x="165" y="2"/>
                </a:lnTo>
                <a:lnTo>
                  <a:pt x="180" y="3"/>
                </a:lnTo>
                <a:lnTo>
                  <a:pt x="194" y="3"/>
                </a:lnTo>
                <a:lnTo>
                  <a:pt x="210" y="5"/>
                </a:lnTo>
                <a:lnTo>
                  <a:pt x="226" y="6"/>
                </a:lnTo>
                <a:lnTo>
                  <a:pt x="242" y="6"/>
                </a:lnTo>
                <a:lnTo>
                  <a:pt x="259" y="7"/>
                </a:lnTo>
                <a:lnTo>
                  <a:pt x="276" y="9"/>
                </a:lnTo>
                <a:lnTo>
                  <a:pt x="295" y="10"/>
                </a:lnTo>
                <a:lnTo>
                  <a:pt x="314" y="13"/>
                </a:lnTo>
                <a:lnTo>
                  <a:pt x="327" y="48"/>
                </a:lnTo>
                <a:lnTo>
                  <a:pt x="340" y="81"/>
                </a:lnTo>
                <a:lnTo>
                  <a:pt x="351" y="114"/>
                </a:lnTo>
                <a:lnTo>
                  <a:pt x="363" y="146"/>
                </a:lnTo>
                <a:lnTo>
                  <a:pt x="374" y="176"/>
                </a:lnTo>
                <a:lnTo>
                  <a:pt x="384" y="205"/>
                </a:lnTo>
                <a:lnTo>
                  <a:pt x="394" y="234"/>
                </a:lnTo>
                <a:lnTo>
                  <a:pt x="404" y="261"/>
                </a:lnTo>
                <a:lnTo>
                  <a:pt x="413" y="287"/>
                </a:lnTo>
                <a:lnTo>
                  <a:pt x="422" y="313"/>
                </a:lnTo>
                <a:lnTo>
                  <a:pt x="430" y="336"/>
                </a:lnTo>
                <a:lnTo>
                  <a:pt x="438" y="359"/>
                </a:lnTo>
                <a:lnTo>
                  <a:pt x="445" y="382"/>
                </a:lnTo>
                <a:lnTo>
                  <a:pt x="450" y="402"/>
                </a:lnTo>
                <a:lnTo>
                  <a:pt x="456" y="422"/>
                </a:lnTo>
                <a:lnTo>
                  <a:pt x="461" y="441"/>
                </a:lnTo>
                <a:lnTo>
                  <a:pt x="466" y="460"/>
                </a:lnTo>
                <a:lnTo>
                  <a:pt x="469" y="475"/>
                </a:lnTo>
                <a:lnTo>
                  <a:pt x="473" y="491"/>
                </a:lnTo>
                <a:lnTo>
                  <a:pt x="476" y="506"/>
                </a:lnTo>
                <a:lnTo>
                  <a:pt x="478" y="520"/>
                </a:lnTo>
                <a:lnTo>
                  <a:pt x="479" y="533"/>
                </a:lnTo>
                <a:lnTo>
                  <a:pt x="481" y="544"/>
                </a:lnTo>
                <a:lnTo>
                  <a:pt x="481" y="555"/>
                </a:lnTo>
                <a:lnTo>
                  <a:pt x="479" y="565"/>
                </a:lnTo>
                <a:lnTo>
                  <a:pt x="479" y="573"/>
                </a:lnTo>
                <a:lnTo>
                  <a:pt x="476" y="580"/>
                </a:lnTo>
                <a:lnTo>
                  <a:pt x="473" y="586"/>
                </a:lnTo>
                <a:lnTo>
                  <a:pt x="471" y="592"/>
                </a:lnTo>
                <a:lnTo>
                  <a:pt x="466" y="596"/>
                </a:lnTo>
                <a:lnTo>
                  <a:pt x="462" y="599"/>
                </a:lnTo>
                <a:lnTo>
                  <a:pt x="458" y="602"/>
                </a:lnTo>
                <a:lnTo>
                  <a:pt x="452" y="603"/>
                </a:lnTo>
                <a:lnTo>
                  <a:pt x="446" y="603"/>
                </a:lnTo>
                <a:lnTo>
                  <a:pt x="440" y="605"/>
                </a:lnTo>
                <a:lnTo>
                  <a:pt x="435" y="605"/>
                </a:lnTo>
                <a:lnTo>
                  <a:pt x="429" y="605"/>
                </a:lnTo>
                <a:lnTo>
                  <a:pt x="423" y="603"/>
                </a:lnTo>
                <a:lnTo>
                  <a:pt x="417" y="602"/>
                </a:lnTo>
                <a:lnTo>
                  <a:pt x="410" y="601"/>
                </a:lnTo>
                <a:lnTo>
                  <a:pt x="404" y="599"/>
                </a:lnTo>
                <a:lnTo>
                  <a:pt x="399" y="596"/>
                </a:lnTo>
                <a:lnTo>
                  <a:pt x="393" y="593"/>
                </a:lnTo>
                <a:lnTo>
                  <a:pt x="387" y="589"/>
                </a:lnTo>
                <a:lnTo>
                  <a:pt x="381" y="586"/>
                </a:lnTo>
                <a:lnTo>
                  <a:pt x="376" y="580"/>
                </a:lnTo>
                <a:lnTo>
                  <a:pt x="370" y="576"/>
                </a:lnTo>
                <a:lnTo>
                  <a:pt x="364" y="570"/>
                </a:lnTo>
                <a:lnTo>
                  <a:pt x="358" y="565"/>
                </a:lnTo>
                <a:lnTo>
                  <a:pt x="353" y="557"/>
                </a:lnTo>
                <a:lnTo>
                  <a:pt x="347" y="550"/>
                </a:lnTo>
                <a:lnTo>
                  <a:pt x="341" y="543"/>
                </a:lnTo>
                <a:lnTo>
                  <a:pt x="335" y="534"/>
                </a:lnTo>
                <a:lnTo>
                  <a:pt x="330" y="526"/>
                </a:lnTo>
                <a:lnTo>
                  <a:pt x="324" y="516"/>
                </a:lnTo>
                <a:lnTo>
                  <a:pt x="318" y="506"/>
                </a:lnTo>
                <a:lnTo>
                  <a:pt x="312" y="496"/>
                </a:lnTo>
                <a:lnTo>
                  <a:pt x="307" y="484"/>
                </a:lnTo>
                <a:lnTo>
                  <a:pt x="301" y="472"/>
                </a:lnTo>
                <a:lnTo>
                  <a:pt x="295" y="461"/>
                </a:lnTo>
                <a:lnTo>
                  <a:pt x="289" y="448"/>
                </a:lnTo>
                <a:lnTo>
                  <a:pt x="283" y="434"/>
                </a:lnTo>
                <a:lnTo>
                  <a:pt x="278" y="419"/>
                </a:lnTo>
                <a:lnTo>
                  <a:pt x="273" y="405"/>
                </a:lnTo>
                <a:lnTo>
                  <a:pt x="268" y="390"/>
                </a:lnTo>
                <a:lnTo>
                  <a:pt x="262" y="376"/>
                </a:lnTo>
                <a:lnTo>
                  <a:pt x="255" y="362"/>
                </a:lnTo>
                <a:lnTo>
                  <a:pt x="249" y="349"/>
                </a:lnTo>
                <a:lnTo>
                  <a:pt x="243" y="334"/>
                </a:lnTo>
                <a:lnTo>
                  <a:pt x="237" y="323"/>
                </a:lnTo>
                <a:lnTo>
                  <a:pt x="230" y="310"/>
                </a:lnTo>
                <a:lnTo>
                  <a:pt x="224" y="298"/>
                </a:lnTo>
                <a:lnTo>
                  <a:pt x="217" y="287"/>
                </a:lnTo>
                <a:lnTo>
                  <a:pt x="211" y="275"/>
                </a:lnTo>
                <a:lnTo>
                  <a:pt x="204" y="265"/>
                </a:lnTo>
                <a:lnTo>
                  <a:pt x="199" y="255"/>
                </a:lnTo>
                <a:lnTo>
                  <a:pt x="191" y="245"/>
                </a:lnTo>
                <a:lnTo>
                  <a:pt x="184" y="235"/>
                </a:lnTo>
                <a:lnTo>
                  <a:pt x="178" y="226"/>
                </a:lnTo>
                <a:lnTo>
                  <a:pt x="171" y="218"/>
                </a:lnTo>
                <a:lnTo>
                  <a:pt x="164" y="210"/>
                </a:lnTo>
                <a:lnTo>
                  <a:pt x="158" y="202"/>
                </a:lnTo>
                <a:lnTo>
                  <a:pt x="151" y="195"/>
                </a:lnTo>
                <a:lnTo>
                  <a:pt x="144" y="187"/>
                </a:lnTo>
                <a:lnTo>
                  <a:pt x="138" y="182"/>
                </a:lnTo>
                <a:lnTo>
                  <a:pt x="131" y="176"/>
                </a:lnTo>
                <a:lnTo>
                  <a:pt x="124" y="170"/>
                </a:lnTo>
                <a:lnTo>
                  <a:pt x="118" y="164"/>
                </a:lnTo>
                <a:lnTo>
                  <a:pt x="111" y="160"/>
                </a:lnTo>
                <a:lnTo>
                  <a:pt x="105" y="156"/>
                </a:lnTo>
                <a:lnTo>
                  <a:pt x="98" y="151"/>
                </a:lnTo>
                <a:lnTo>
                  <a:pt x="92" y="149"/>
                </a:lnTo>
                <a:lnTo>
                  <a:pt x="86" y="144"/>
                </a:lnTo>
                <a:lnTo>
                  <a:pt x="80" y="141"/>
                </a:lnTo>
                <a:lnTo>
                  <a:pt x="75" y="140"/>
                </a:lnTo>
                <a:lnTo>
                  <a:pt x="69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89"/>
          <p:cNvSpPr/>
          <p:nvPr/>
        </p:nvSpPr>
        <p:spPr>
          <a:xfrm>
            <a:off x="6100920" y="3581280"/>
            <a:ext cx="487080" cy="114480"/>
          </a:xfrm>
          <a:custGeom>
            <a:avLst/>
            <a:gdLst/>
            <a:ahLst/>
            <a:rect l="l" t="t" r="r" b="b"/>
            <a:pathLst>
              <a:path w="920" h="214">
                <a:moveTo>
                  <a:pt x="0" y="214"/>
                </a:moveTo>
                <a:lnTo>
                  <a:pt x="0" y="89"/>
                </a:lnTo>
                <a:lnTo>
                  <a:pt x="6" y="87"/>
                </a:lnTo>
                <a:lnTo>
                  <a:pt x="11" y="86"/>
                </a:lnTo>
                <a:lnTo>
                  <a:pt x="26" y="82"/>
                </a:lnTo>
                <a:lnTo>
                  <a:pt x="40" y="79"/>
                </a:lnTo>
                <a:lnTo>
                  <a:pt x="57" y="76"/>
                </a:lnTo>
                <a:lnTo>
                  <a:pt x="75" y="72"/>
                </a:lnTo>
                <a:lnTo>
                  <a:pt x="92" y="69"/>
                </a:lnTo>
                <a:lnTo>
                  <a:pt x="112" y="66"/>
                </a:lnTo>
                <a:lnTo>
                  <a:pt x="132" y="63"/>
                </a:lnTo>
                <a:lnTo>
                  <a:pt x="154" y="59"/>
                </a:lnTo>
                <a:lnTo>
                  <a:pt x="177" y="56"/>
                </a:lnTo>
                <a:lnTo>
                  <a:pt x="200" y="53"/>
                </a:lnTo>
                <a:lnTo>
                  <a:pt x="224" y="49"/>
                </a:lnTo>
                <a:lnTo>
                  <a:pt x="249" y="46"/>
                </a:lnTo>
                <a:lnTo>
                  <a:pt x="275" y="43"/>
                </a:lnTo>
                <a:lnTo>
                  <a:pt x="301" y="38"/>
                </a:lnTo>
                <a:lnTo>
                  <a:pt x="328" y="36"/>
                </a:lnTo>
                <a:lnTo>
                  <a:pt x="381" y="28"/>
                </a:lnTo>
                <a:lnTo>
                  <a:pt x="435" y="23"/>
                </a:lnTo>
                <a:lnTo>
                  <a:pt x="486" y="17"/>
                </a:lnTo>
                <a:lnTo>
                  <a:pt x="540" y="11"/>
                </a:lnTo>
                <a:lnTo>
                  <a:pt x="590" y="7"/>
                </a:lnTo>
                <a:lnTo>
                  <a:pt x="641" y="2"/>
                </a:lnTo>
                <a:lnTo>
                  <a:pt x="665" y="1"/>
                </a:lnTo>
                <a:lnTo>
                  <a:pt x="689" y="1"/>
                </a:lnTo>
                <a:lnTo>
                  <a:pt x="712" y="0"/>
                </a:lnTo>
                <a:lnTo>
                  <a:pt x="737" y="0"/>
                </a:lnTo>
                <a:lnTo>
                  <a:pt x="759" y="0"/>
                </a:lnTo>
                <a:lnTo>
                  <a:pt x="779" y="1"/>
                </a:lnTo>
                <a:lnTo>
                  <a:pt x="799" y="1"/>
                </a:lnTo>
                <a:lnTo>
                  <a:pt x="816" y="2"/>
                </a:lnTo>
                <a:lnTo>
                  <a:pt x="833" y="5"/>
                </a:lnTo>
                <a:lnTo>
                  <a:pt x="848" y="7"/>
                </a:lnTo>
                <a:lnTo>
                  <a:pt x="862" y="10"/>
                </a:lnTo>
                <a:lnTo>
                  <a:pt x="874" y="13"/>
                </a:lnTo>
                <a:lnTo>
                  <a:pt x="885" y="17"/>
                </a:lnTo>
                <a:lnTo>
                  <a:pt x="894" y="21"/>
                </a:lnTo>
                <a:lnTo>
                  <a:pt x="903" y="25"/>
                </a:lnTo>
                <a:lnTo>
                  <a:pt x="908" y="30"/>
                </a:lnTo>
                <a:lnTo>
                  <a:pt x="914" y="36"/>
                </a:lnTo>
                <a:lnTo>
                  <a:pt x="917" y="41"/>
                </a:lnTo>
                <a:lnTo>
                  <a:pt x="920" y="47"/>
                </a:lnTo>
                <a:lnTo>
                  <a:pt x="920" y="54"/>
                </a:lnTo>
                <a:lnTo>
                  <a:pt x="920" y="63"/>
                </a:lnTo>
                <a:lnTo>
                  <a:pt x="920" y="72"/>
                </a:lnTo>
                <a:lnTo>
                  <a:pt x="920" y="80"/>
                </a:lnTo>
                <a:lnTo>
                  <a:pt x="920" y="87"/>
                </a:lnTo>
                <a:lnTo>
                  <a:pt x="920" y="93"/>
                </a:lnTo>
                <a:lnTo>
                  <a:pt x="918" y="99"/>
                </a:lnTo>
                <a:lnTo>
                  <a:pt x="918" y="105"/>
                </a:lnTo>
                <a:lnTo>
                  <a:pt x="917" y="109"/>
                </a:lnTo>
                <a:lnTo>
                  <a:pt x="917" y="113"/>
                </a:lnTo>
                <a:lnTo>
                  <a:pt x="915" y="116"/>
                </a:lnTo>
                <a:lnTo>
                  <a:pt x="913" y="119"/>
                </a:lnTo>
                <a:lnTo>
                  <a:pt x="911" y="120"/>
                </a:lnTo>
                <a:lnTo>
                  <a:pt x="910" y="123"/>
                </a:lnTo>
                <a:lnTo>
                  <a:pt x="907" y="123"/>
                </a:lnTo>
                <a:lnTo>
                  <a:pt x="903" y="125"/>
                </a:lnTo>
                <a:lnTo>
                  <a:pt x="900" y="125"/>
                </a:lnTo>
                <a:lnTo>
                  <a:pt x="898" y="126"/>
                </a:lnTo>
                <a:lnTo>
                  <a:pt x="897" y="126"/>
                </a:lnTo>
                <a:lnTo>
                  <a:pt x="895" y="128"/>
                </a:lnTo>
                <a:lnTo>
                  <a:pt x="892" y="128"/>
                </a:lnTo>
                <a:lnTo>
                  <a:pt x="890" y="129"/>
                </a:lnTo>
                <a:lnTo>
                  <a:pt x="887" y="131"/>
                </a:lnTo>
                <a:lnTo>
                  <a:pt x="882" y="131"/>
                </a:lnTo>
                <a:lnTo>
                  <a:pt x="878" y="132"/>
                </a:lnTo>
                <a:lnTo>
                  <a:pt x="874" y="132"/>
                </a:lnTo>
                <a:lnTo>
                  <a:pt x="869" y="133"/>
                </a:lnTo>
                <a:lnTo>
                  <a:pt x="864" y="135"/>
                </a:lnTo>
                <a:lnTo>
                  <a:pt x="858" y="135"/>
                </a:lnTo>
                <a:lnTo>
                  <a:pt x="852" y="136"/>
                </a:lnTo>
                <a:lnTo>
                  <a:pt x="845" y="136"/>
                </a:lnTo>
                <a:lnTo>
                  <a:pt x="838" y="138"/>
                </a:lnTo>
                <a:lnTo>
                  <a:pt x="831" y="139"/>
                </a:lnTo>
                <a:lnTo>
                  <a:pt x="823" y="139"/>
                </a:lnTo>
                <a:lnTo>
                  <a:pt x="815" y="141"/>
                </a:lnTo>
                <a:lnTo>
                  <a:pt x="806" y="142"/>
                </a:lnTo>
                <a:lnTo>
                  <a:pt x="797" y="142"/>
                </a:lnTo>
                <a:lnTo>
                  <a:pt x="787" y="144"/>
                </a:lnTo>
                <a:lnTo>
                  <a:pt x="777" y="145"/>
                </a:lnTo>
                <a:lnTo>
                  <a:pt x="767" y="145"/>
                </a:lnTo>
                <a:lnTo>
                  <a:pt x="757" y="146"/>
                </a:lnTo>
                <a:lnTo>
                  <a:pt x="746" y="148"/>
                </a:lnTo>
                <a:lnTo>
                  <a:pt x="734" y="149"/>
                </a:lnTo>
                <a:lnTo>
                  <a:pt x="723" y="149"/>
                </a:lnTo>
                <a:lnTo>
                  <a:pt x="710" y="151"/>
                </a:lnTo>
                <a:lnTo>
                  <a:pt x="698" y="152"/>
                </a:lnTo>
                <a:lnTo>
                  <a:pt x="684" y="154"/>
                </a:lnTo>
                <a:lnTo>
                  <a:pt x="671" y="155"/>
                </a:lnTo>
                <a:lnTo>
                  <a:pt x="656" y="155"/>
                </a:lnTo>
                <a:lnTo>
                  <a:pt x="642" y="156"/>
                </a:lnTo>
                <a:lnTo>
                  <a:pt x="628" y="158"/>
                </a:lnTo>
                <a:lnTo>
                  <a:pt x="613" y="159"/>
                </a:lnTo>
                <a:lnTo>
                  <a:pt x="597" y="161"/>
                </a:lnTo>
                <a:lnTo>
                  <a:pt x="581" y="162"/>
                </a:lnTo>
                <a:lnTo>
                  <a:pt x="564" y="164"/>
                </a:lnTo>
                <a:lnTo>
                  <a:pt x="548" y="165"/>
                </a:lnTo>
                <a:lnTo>
                  <a:pt x="531" y="167"/>
                </a:lnTo>
                <a:lnTo>
                  <a:pt x="514" y="168"/>
                </a:lnTo>
                <a:lnTo>
                  <a:pt x="495" y="169"/>
                </a:lnTo>
                <a:lnTo>
                  <a:pt x="476" y="171"/>
                </a:lnTo>
                <a:lnTo>
                  <a:pt x="458" y="172"/>
                </a:lnTo>
                <a:lnTo>
                  <a:pt x="439" y="174"/>
                </a:lnTo>
                <a:lnTo>
                  <a:pt x="419" y="177"/>
                </a:lnTo>
                <a:lnTo>
                  <a:pt x="399" y="178"/>
                </a:lnTo>
                <a:lnTo>
                  <a:pt x="379" y="180"/>
                </a:lnTo>
                <a:lnTo>
                  <a:pt x="358" y="181"/>
                </a:lnTo>
                <a:lnTo>
                  <a:pt x="337" y="184"/>
                </a:lnTo>
                <a:lnTo>
                  <a:pt x="315" y="185"/>
                </a:lnTo>
                <a:lnTo>
                  <a:pt x="294" y="187"/>
                </a:lnTo>
                <a:lnTo>
                  <a:pt x="272" y="190"/>
                </a:lnTo>
                <a:lnTo>
                  <a:pt x="249" y="191"/>
                </a:lnTo>
                <a:lnTo>
                  <a:pt x="226" y="192"/>
                </a:lnTo>
                <a:lnTo>
                  <a:pt x="201" y="195"/>
                </a:lnTo>
                <a:lnTo>
                  <a:pt x="178" y="197"/>
                </a:lnTo>
                <a:lnTo>
                  <a:pt x="154" y="200"/>
                </a:lnTo>
                <a:lnTo>
                  <a:pt x="129" y="201"/>
                </a:lnTo>
                <a:lnTo>
                  <a:pt x="104" y="204"/>
                </a:lnTo>
                <a:lnTo>
                  <a:pt x="79" y="207"/>
                </a:lnTo>
                <a:lnTo>
                  <a:pt x="53" y="208"/>
                </a:lnTo>
                <a:lnTo>
                  <a:pt x="26" y="211"/>
                </a:lnTo>
                <a:lnTo>
                  <a:pt x="0" y="2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90"/>
          <p:cNvSpPr/>
          <p:nvPr/>
        </p:nvSpPr>
        <p:spPr>
          <a:xfrm>
            <a:off x="5541840" y="4108320"/>
            <a:ext cx="1230480" cy="360360"/>
          </a:xfrm>
          <a:custGeom>
            <a:avLst/>
            <a:gdLst/>
            <a:ahLst/>
            <a:rect l="l" t="t" r="r" b="b"/>
            <a:pathLst>
              <a:path w="2323" h="681">
                <a:moveTo>
                  <a:pt x="1321" y="377"/>
                </a:moveTo>
                <a:lnTo>
                  <a:pt x="1258" y="396"/>
                </a:lnTo>
                <a:lnTo>
                  <a:pt x="1199" y="413"/>
                </a:lnTo>
                <a:lnTo>
                  <a:pt x="1140" y="430"/>
                </a:lnTo>
                <a:lnTo>
                  <a:pt x="1084" y="447"/>
                </a:lnTo>
                <a:lnTo>
                  <a:pt x="1029" y="463"/>
                </a:lnTo>
                <a:lnTo>
                  <a:pt x="976" y="479"/>
                </a:lnTo>
                <a:lnTo>
                  <a:pt x="925" y="495"/>
                </a:lnTo>
                <a:lnTo>
                  <a:pt x="876" y="509"/>
                </a:lnTo>
                <a:lnTo>
                  <a:pt x="830" y="522"/>
                </a:lnTo>
                <a:lnTo>
                  <a:pt x="784" y="535"/>
                </a:lnTo>
                <a:lnTo>
                  <a:pt x="741" y="548"/>
                </a:lnTo>
                <a:lnTo>
                  <a:pt x="701" y="561"/>
                </a:lnTo>
                <a:lnTo>
                  <a:pt x="660" y="573"/>
                </a:lnTo>
                <a:lnTo>
                  <a:pt x="623" y="583"/>
                </a:lnTo>
                <a:lnTo>
                  <a:pt x="588" y="594"/>
                </a:lnTo>
                <a:lnTo>
                  <a:pt x="554" y="603"/>
                </a:lnTo>
                <a:lnTo>
                  <a:pt x="522" y="613"/>
                </a:lnTo>
                <a:lnTo>
                  <a:pt x="493" y="622"/>
                </a:lnTo>
                <a:lnTo>
                  <a:pt x="465" y="629"/>
                </a:lnTo>
                <a:lnTo>
                  <a:pt x="439" y="638"/>
                </a:lnTo>
                <a:lnTo>
                  <a:pt x="416" y="643"/>
                </a:lnTo>
                <a:lnTo>
                  <a:pt x="393" y="650"/>
                </a:lnTo>
                <a:lnTo>
                  <a:pt x="373" y="656"/>
                </a:lnTo>
                <a:lnTo>
                  <a:pt x="355" y="661"/>
                </a:lnTo>
                <a:lnTo>
                  <a:pt x="338" y="665"/>
                </a:lnTo>
                <a:lnTo>
                  <a:pt x="324" y="669"/>
                </a:lnTo>
                <a:lnTo>
                  <a:pt x="312" y="672"/>
                </a:lnTo>
                <a:lnTo>
                  <a:pt x="301" y="675"/>
                </a:lnTo>
                <a:lnTo>
                  <a:pt x="292" y="678"/>
                </a:lnTo>
                <a:lnTo>
                  <a:pt x="286" y="679"/>
                </a:lnTo>
                <a:lnTo>
                  <a:pt x="282" y="679"/>
                </a:lnTo>
                <a:lnTo>
                  <a:pt x="279" y="681"/>
                </a:lnTo>
                <a:lnTo>
                  <a:pt x="275" y="679"/>
                </a:lnTo>
                <a:lnTo>
                  <a:pt x="269" y="679"/>
                </a:lnTo>
                <a:lnTo>
                  <a:pt x="263" y="678"/>
                </a:lnTo>
                <a:lnTo>
                  <a:pt x="256" y="676"/>
                </a:lnTo>
                <a:lnTo>
                  <a:pt x="249" y="675"/>
                </a:lnTo>
                <a:lnTo>
                  <a:pt x="240" y="672"/>
                </a:lnTo>
                <a:lnTo>
                  <a:pt x="231" y="669"/>
                </a:lnTo>
                <a:lnTo>
                  <a:pt x="221" y="665"/>
                </a:lnTo>
                <a:lnTo>
                  <a:pt x="213" y="661"/>
                </a:lnTo>
                <a:lnTo>
                  <a:pt x="201" y="655"/>
                </a:lnTo>
                <a:lnTo>
                  <a:pt x="191" y="649"/>
                </a:lnTo>
                <a:lnTo>
                  <a:pt x="181" y="643"/>
                </a:lnTo>
                <a:lnTo>
                  <a:pt x="170" y="636"/>
                </a:lnTo>
                <a:lnTo>
                  <a:pt x="158" y="627"/>
                </a:lnTo>
                <a:lnTo>
                  <a:pt x="147" y="619"/>
                </a:lnTo>
                <a:lnTo>
                  <a:pt x="135" y="609"/>
                </a:lnTo>
                <a:lnTo>
                  <a:pt x="124" y="599"/>
                </a:lnTo>
                <a:lnTo>
                  <a:pt x="113" y="590"/>
                </a:lnTo>
                <a:lnTo>
                  <a:pt x="103" y="580"/>
                </a:lnTo>
                <a:lnTo>
                  <a:pt x="93" y="571"/>
                </a:lnTo>
                <a:lnTo>
                  <a:pt x="85" y="563"/>
                </a:lnTo>
                <a:lnTo>
                  <a:pt x="75" y="554"/>
                </a:lnTo>
                <a:lnTo>
                  <a:pt x="67" y="545"/>
                </a:lnTo>
                <a:lnTo>
                  <a:pt x="59" y="538"/>
                </a:lnTo>
                <a:lnTo>
                  <a:pt x="52" y="530"/>
                </a:lnTo>
                <a:lnTo>
                  <a:pt x="44" y="521"/>
                </a:lnTo>
                <a:lnTo>
                  <a:pt x="37" y="512"/>
                </a:lnTo>
                <a:lnTo>
                  <a:pt x="31" y="504"/>
                </a:lnTo>
                <a:lnTo>
                  <a:pt x="26" y="495"/>
                </a:lnTo>
                <a:lnTo>
                  <a:pt x="21" y="486"/>
                </a:lnTo>
                <a:lnTo>
                  <a:pt x="17" y="476"/>
                </a:lnTo>
                <a:lnTo>
                  <a:pt x="13" y="466"/>
                </a:lnTo>
                <a:lnTo>
                  <a:pt x="10" y="456"/>
                </a:lnTo>
                <a:lnTo>
                  <a:pt x="5" y="447"/>
                </a:lnTo>
                <a:lnTo>
                  <a:pt x="4" y="440"/>
                </a:lnTo>
                <a:lnTo>
                  <a:pt x="1" y="433"/>
                </a:lnTo>
                <a:lnTo>
                  <a:pt x="0" y="426"/>
                </a:lnTo>
                <a:lnTo>
                  <a:pt x="0" y="420"/>
                </a:lnTo>
                <a:lnTo>
                  <a:pt x="0" y="416"/>
                </a:lnTo>
                <a:lnTo>
                  <a:pt x="0" y="410"/>
                </a:lnTo>
                <a:lnTo>
                  <a:pt x="1" y="407"/>
                </a:lnTo>
                <a:lnTo>
                  <a:pt x="3" y="403"/>
                </a:lnTo>
                <a:lnTo>
                  <a:pt x="5" y="401"/>
                </a:lnTo>
                <a:lnTo>
                  <a:pt x="10" y="399"/>
                </a:lnTo>
                <a:lnTo>
                  <a:pt x="14" y="397"/>
                </a:lnTo>
                <a:lnTo>
                  <a:pt x="20" y="396"/>
                </a:lnTo>
                <a:lnTo>
                  <a:pt x="26" y="396"/>
                </a:lnTo>
                <a:lnTo>
                  <a:pt x="33" y="396"/>
                </a:lnTo>
                <a:lnTo>
                  <a:pt x="37" y="396"/>
                </a:lnTo>
                <a:lnTo>
                  <a:pt x="43" y="396"/>
                </a:lnTo>
                <a:lnTo>
                  <a:pt x="50" y="396"/>
                </a:lnTo>
                <a:lnTo>
                  <a:pt x="59" y="396"/>
                </a:lnTo>
                <a:lnTo>
                  <a:pt x="69" y="396"/>
                </a:lnTo>
                <a:lnTo>
                  <a:pt x="80" y="396"/>
                </a:lnTo>
                <a:lnTo>
                  <a:pt x="92" y="396"/>
                </a:lnTo>
                <a:lnTo>
                  <a:pt x="105" y="396"/>
                </a:lnTo>
                <a:lnTo>
                  <a:pt x="118" y="396"/>
                </a:lnTo>
                <a:lnTo>
                  <a:pt x="134" y="396"/>
                </a:lnTo>
                <a:lnTo>
                  <a:pt x="149" y="396"/>
                </a:lnTo>
                <a:lnTo>
                  <a:pt x="165" y="396"/>
                </a:lnTo>
                <a:lnTo>
                  <a:pt x="183" y="396"/>
                </a:lnTo>
                <a:lnTo>
                  <a:pt x="200" y="396"/>
                </a:lnTo>
                <a:lnTo>
                  <a:pt x="219" y="396"/>
                </a:lnTo>
                <a:lnTo>
                  <a:pt x="237" y="396"/>
                </a:lnTo>
                <a:lnTo>
                  <a:pt x="247" y="394"/>
                </a:lnTo>
                <a:lnTo>
                  <a:pt x="260" y="394"/>
                </a:lnTo>
                <a:lnTo>
                  <a:pt x="273" y="393"/>
                </a:lnTo>
                <a:lnTo>
                  <a:pt x="288" y="391"/>
                </a:lnTo>
                <a:lnTo>
                  <a:pt x="305" y="390"/>
                </a:lnTo>
                <a:lnTo>
                  <a:pt x="322" y="387"/>
                </a:lnTo>
                <a:lnTo>
                  <a:pt x="342" y="386"/>
                </a:lnTo>
                <a:lnTo>
                  <a:pt x="364" y="383"/>
                </a:lnTo>
                <a:lnTo>
                  <a:pt x="387" y="378"/>
                </a:lnTo>
                <a:lnTo>
                  <a:pt x="411" y="374"/>
                </a:lnTo>
                <a:lnTo>
                  <a:pt x="437" y="370"/>
                </a:lnTo>
                <a:lnTo>
                  <a:pt x="465" y="365"/>
                </a:lnTo>
                <a:lnTo>
                  <a:pt x="493" y="361"/>
                </a:lnTo>
                <a:lnTo>
                  <a:pt x="524" y="355"/>
                </a:lnTo>
                <a:lnTo>
                  <a:pt x="557" y="350"/>
                </a:lnTo>
                <a:lnTo>
                  <a:pt x="590" y="342"/>
                </a:lnTo>
                <a:lnTo>
                  <a:pt x="626" y="335"/>
                </a:lnTo>
                <a:lnTo>
                  <a:pt x="662" y="328"/>
                </a:lnTo>
                <a:lnTo>
                  <a:pt x="701" y="321"/>
                </a:lnTo>
                <a:lnTo>
                  <a:pt x="741" y="312"/>
                </a:lnTo>
                <a:lnTo>
                  <a:pt x="783" y="304"/>
                </a:lnTo>
                <a:lnTo>
                  <a:pt x="825" y="295"/>
                </a:lnTo>
                <a:lnTo>
                  <a:pt x="869" y="286"/>
                </a:lnTo>
                <a:lnTo>
                  <a:pt x="917" y="276"/>
                </a:lnTo>
                <a:lnTo>
                  <a:pt x="964" y="266"/>
                </a:lnTo>
                <a:lnTo>
                  <a:pt x="1013" y="255"/>
                </a:lnTo>
                <a:lnTo>
                  <a:pt x="1064" y="243"/>
                </a:lnTo>
                <a:lnTo>
                  <a:pt x="1117" y="232"/>
                </a:lnTo>
                <a:lnTo>
                  <a:pt x="1170" y="220"/>
                </a:lnTo>
                <a:lnTo>
                  <a:pt x="1226" y="207"/>
                </a:lnTo>
                <a:lnTo>
                  <a:pt x="1282" y="194"/>
                </a:lnTo>
                <a:lnTo>
                  <a:pt x="1341" y="181"/>
                </a:lnTo>
                <a:lnTo>
                  <a:pt x="1370" y="174"/>
                </a:lnTo>
                <a:lnTo>
                  <a:pt x="1400" y="168"/>
                </a:lnTo>
                <a:lnTo>
                  <a:pt x="1428" y="161"/>
                </a:lnTo>
                <a:lnTo>
                  <a:pt x="1457" y="155"/>
                </a:lnTo>
                <a:lnTo>
                  <a:pt x="1484" y="149"/>
                </a:lnTo>
                <a:lnTo>
                  <a:pt x="1511" y="142"/>
                </a:lnTo>
                <a:lnTo>
                  <a:pt x="1539" y="137"/>
                </a:lnTo>
                <a:lnTo>
                  <a:pt x="1565" y="131"/>
                </a:lnTo>
                <a:lnTo>
                  <a:pt x="1590" y="125"/>
                </a:lnTo>
                <a:lnTo>
                  <a:pt x="1616" y="119"/>
                </a:lnTo>
                <a:lnTo>
                  <a:pt x="1641" y="115"/>
                </a:lnTo>
                <a:lnTo>
                  <a:pt x="1665" y="109"/>
                </a:lnTo>
                <a:lnTo>
                  <a:pt x="1690" y="103"/>
                </a:lnTo>
                <a:lnTo>
                  <a:pt x="1713" y="99"/>
                </a:lnTo>
                <a:lnTo>
                  <a:pt x="1736" y="95"/>
                </a:lnTo>
                <a:lnTo>
                  <a:pt x="1759" y="89"/>
                </a:lnTo>
                <a:lnTo>
                  <a:pt x="1780" y="85"/>
                </a:lnTo>
                <a:lnTo>
                  <a:pt x="1803" y="80"/>
                </a:lnTo>
                <a:lnTo>
                  <a:pt x="1824" y="76"/>
                </a:lnTo>
                <a:lnTo>
                  <a:pt x="1845" y="72"/>
                </a:lnTo>
                <a:lnTo>
                  <a:pt x="1865" y="67"/>
                </a:lnTo>
                <a:lnTo>
                  <a:pt x="1886" y="63"/>
                </a:lnTo>
                <a:lnTo>
                  <a:pt x="1906" y="60"/>
                </a:lnTo>
                <a:lnTo>
                  <a:pt x="1924" y="56"/>
                </a:lnTo>
                <a:lnTo>
                  <a:pt x="1943" y="53"/>
                </a:lnTo>
                <a:lnTo>
                  <a:pt x="1962" y="49"/>
                </a:lnTo>
                <a:lnTo>
                  <a:pt x="1979" y="46"/>
                </a:lnTo>
                <a:lnTo>
                  <a:pt x="1996" y="43"/>
                </a:lnTo>
                <a:lnTo>
                  <a:pt x="2014" y="39"/>
                </a:lnTo>
                <a:lnTo>
                  <a:pt x="2029" y="36"/>
                </a:lnTo>
                <a:lnTo>
                  <a:pt x="2047" y="33"/>
                </a:lnTo>
                <a:lnTo>
                  <a:pt x="2061" y="30"/>
                </a:lnTo>
                <a:lnTo>
                  <a:pt x="2077" y="29"/>
                </a:lnTo>
                <a:lnTo>
                  <a:pt x="2091" y="26"/>
                </a:lnTo>
                <a:lnTo>
                  <a:pt x="2106" y="23"/>
                </a:lnTo>
                <a:lnTo>
                  <a:pt x="2119" y="21"/>
                </a:lnTo>
                <a:lnTo>
                  <a:pt x="2133" y="18"/>
                </a:lnTo>
                <a:lnTo>
                  <a:pt x="2146" y="17"/>
                </a:lnTo>
                <a:lnTo>
                  <a:pt x="2158" y="14"/>
                </a:lnTo>
                <a:lnTo>
                  <a:pt x="2171" y="13"/>
                </a:lnTo>
                <a:lnTo>
                  <a:pt x="2182" y="11"/>
                </a:lnTo>
                <a:lnTo>
                  <a:pt x="2192" y="10"/>
                </a:lnTo>
                <a:lnTo>
                  <a:pt x="2204" y="8"/>
                </a:lnTo>
                <a:lnTo>
                  <a:pt x="2214" y="7"/>
                </a:lnTo>
                <a:lnTo>
                  <a:pt x="2222" y="6"/>
                </a:lnTo>
                <a:lnTo>
                  <a:pt x="2232" y="4"/>
                </a:lnTo>
                <a:lnTo>
                  <a:pt x="2241" y="4"/>
                </a:lnTo>
                <a:lnTo>
                  <a:pt x="2250" y="3"/>
                </a:lnTo>
                <a:lnTo>
                  <a:pt x="2257" y="1"/>
                </a:lnTo>
                <a:lnTo>
                  <a:pt x="2266" y="1"/>
                </a:lnTo>
                <a:lnTo>
                  <a:pt x="2271" y="0"/>
                </a:lnTo>
                <a:lnTo>
                  <a:pt x="2279" y="0"/>
                </a:lnTo>
                <a:lnTo>
                  <a:pt x="2284" y="0"/>
                </a:lnTo>
                <a:lnTo>
                  <a:pt x="2290" y="0"/>
                </a:lnTo>
                <a:lnTo>
                  <a:pt x="2296" y="0"/>
                </a:lnTo>
                <a:lnTo>
                  <a:pt x="2300" y="0"/>
                </a:lnTo>
                <a:lnTo>
                  <a:pt x="2304" y="0"/>
                </a:lnTo>
                <a:lnTo>
                  <a:pt x="2309" y="0"/>
                </a:lnTo>
                <a:lnTo>
                  <a:pt x="2312" y="0"/>
                </a:lnTo>
                <a:lnTo>
                  <a:pt x="2315" y="0"/>
                </a:lnTo>
                <a:lnTo>
                  <a:pt x="2317" y="1"/>
                </a:lnTo>
                <a:lnTo>
                  <a:pt x="2319" y="1"/>
                </a:lnTo>
                <a:lnTo>
                  <a:pt x="2322" y="1"/>
                </a:lnTo>
                <a:lnTo>
                  <a:pt x="2322" y="3"/>
                </a:lnTo>
                <a:lnTo>
                  <a:pt x="2323" y="7"/>
                </a:lnTo>
                <a:lnTo>
                  <a:pt x="2322" y="10"/>
                </a:lnTo>
                <a:lnTo>
                  <a:pt x="2319" y="16"/>
                </a:lnTo>
                <a:lnTo>
                  <a:pt x="2313" y="20"/>
                </a:lnTo>
                <a:lnTo>
                  <a:pt x="2306" y="26"/>
                </a:lnTo>
                <a:lnTo>
                  <a:pt x="2297" y="31"/>
                </a:lnTo>
                <a:lnTo>
                  <a:pt x="2286" y="39"/>
                </a:lnTo>
                <a:lnTo>
                  <a:pt x="2271" y="46"/>
                </a:lnTo>
                <a:lnTo>
                  <a:pt x="2257" y="53"/>
                </a:lnTo>
                <a:lnTo>
                  <a:pt x="2238" y="62"/>
                </a:lnTo>
                <a:lnTo>
                  <a:pt x="2220" y="70"/>
                </a:lnTo>
                <a:lnTo>
                  <a:pt x="2198" y="79"/>
                </a:lnTo>
                <a:lnTo>
                  <a:pt x="2173" y="89"/>
                </a:lnTo>
                <a:lnTo>
                  <a:pt x="2148" y="99"/>
                </a:lnTo>
                <a:lnTo>
                  <a:pt x="2119" y="111"/>
                </a:lnTo>
                <a:lnTo>
                  <a:pt x="2090" y="122"/>
                </a:lnTo>
                <a:lnTo>
                  <a:pt x="2057" y="134"/>
                </a:lnTo>
                <a:lnTo>
                  <a:pt x="2022" y="145"/>
                </a:lnTo>
                <a:lnTo>
                  <a:pt x="1986" y="158"/>
                </a:lnTo>
                <a:lnTo>
                  <a:pt x="1947" y="173"/>
                </a:lnTo>
                <a:lnTo>
                  <a:pt x="1907" y="187"/>
                </a:lnTo>
                <a:lnTo>
                  <a:pt x="1864" y="201"/>
                </a:lnTo>
                <a:lnTo>
                  <a:pt x="1819" y="216"/>
                </a:lnTo>
                <a:lnTo>
                  <a:pt x="1773" y="232"/>
                </a:lnTo>
                <a:lnTo>
                  <a:pt x="1723" y="247"/>
                </a:lnTo>
                <a:lnTo>
                  <a:pt x="1672" y="265"/>
                </a:lnTo>
                <a:lnTo>
                  <a:pt x="1619" y="282"/>
                </a:lnTo>
                <a:lnTo>
                  <a:pt x="1563" y="299"/>
                </a:lnTo>
                <a:lnTo>
                  <a:pt x="1505" y="318"/>
                </a:lnTo>
                <a:lnTo>
                  <a:pt x="1446" y="337"/>
                </a:lnTo>
                <a:lnTo>
                  <a:pt x="1385" y="357"/>
                </a:lnTo>
                <a:lnTo>
                  <a:pt x="1321" y="3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1"/>
          <p:cNvSpPr/>
          <p:nvPr/>
        </p:nvSpPr>
        <p:spPr>
          <a:xfrm>
            <a:off x="6033960" y="4025880"/>
            <a:ext cx="427320" cy="830160"/>
          </a:xfrm>
          <a:custGeom>
            <a:avLst/>
            <a:gdLst/>
            <a:ahLst/>
            <a:rect l="l" t="t" r="r" b="b"/>
            <a:pathLst>
              <a:path w="809" h="1569">
                <a:moveTo>
                  <a:pt x="762" y="1123"/>
                </a:moveTo>
                <a:lnTo>
                  <a:pt x="753" y="1152"/>
                </a:lnTo>
                <a:lnTo>
                  <a:pt x="744" y="1180"/>
                </a:lnTo>
                <a:lnTo>
                  <a:pt x="736" y="1208"/>
                </a:lnTo>
                <a:lnTo>
                  <a:pt x="727" y="1234"/>
                </a:lnTo>
                <a:lnTo>
                  <a:pt x="717" y="1258"/>
                </a:lnTo>
                <a:lnTo>
                  <a:pt x="707" y="1281"/>
                </a:lnTo>
                <a:lnTo>
                  <a:pt x="697" y="1304"/>
                </a:lnTo>
                <a:lnTo>
                  <a:pt x="687" y="1326"/>
                </a:lnTo>
                <a:lnTo>
                  <a:pt x="675" y="1346"/>
                </a:lnTo>
                <a:lnTo>
                  <a:pt x="665" y="1365"/>
                </a:lnTo>
                <a:lnTo>
                  <a:pt x="654" y="1383"/>
                </a:lnTo>
                <a:lnTo>
                  <a:pt x="642" y="1401"/>
                </a:lnTo>
                <a:lnTo>
                  <a:pt x="631" y="1418"/>
                </a:lnTo>
                <a:lnTo>
                  <a:pt x="619" y="1434"/>
                </a:lnTo>
                <a:lnTo>
                  <a:pt x="608" y="1448"/>
                </a:lnTo>
                <a:lnTo>
                  <a:pt x="598" y="1462"/>
                </a:lnTo>
                <a:lnTo>
                  <a:pt x="582" y="1475"/>
                </a:lnTo>
                <a:lnTo>
                  <a:pt x="567" y="1487"/>
                </a:lnTo>
                <a:lnTo>
                  <a:pt x="553" y="1498"/>
                </a:lnTo>
                <a:lnTo>
                  <a:pt x="540" y="1509"/>
                </a:lnTo>
                <a:lnTo>
                  <a:pt x="527" y="1519"/>
                </a:lnTo>
                <a:lnTo>
                  <a:pt x="514" y="1527"/>
                </a:lnTo>
                <a:lnTo>
                  <a:pt x="503" y="1534"/>
                </a:lnTo>
                <a:lnTo>
                  <a:pt x="490" y="1542"/>
                </a:lnTo>
                <a:lnTo>
                  <a:pt x="480" y="1549"/>
                </a:lnTo>
                <a:lnTo>
                  <a:pt x="468" y="1553"/>
                </a:lnTo>
                <a:lnTo>
                  <a:pt x="458" y="1558"/>
                </a:lnTo>
                <a:lnTo>
                  <a:pt x="448" y="1562"/>
                </a:lnTo>
                <a:lnTo>
                  <a:pt x="439" y="1565"/>
                </a:lnTo>
                <a:lnTo>
                  <a:pt x="429" y="1566"/>
                </a:lnTo>
                <a:lnTo>
                  <a:pt x="422" y="1568"/>
                </a:lnTo>
                <a:lnTo>
                  <a:pt x="413" y="1569"/>
                </a:lnTo>
                <a:lnTo>
                  <a:pt x="406" y="1565"/>
                </a:lnTo>
                <a:lnTo>
                  <a:pt x="399" y="1560"/>
                </a:lnTo>
                <a:lnTo>
                  <a:pt x="392" y="1556"/>
                </a:lnTo>
                <a:lnTo>
                  <a:pt x="386" y="1550"/>
                </a:lnTo>
                <a:lnTo>
                  <a:pt x="380" y="1546"/>
                </a:lnTo>
                <a:lnTo>
                  <a:pt x="375" y="1539"/>
                </a:lnTo>
                <a:lnTo>
                  <a:pt x="370" y="1532"/>
                </a:lnTo>
                <a:lnTo>
                  <a:pt x="364" y="1524"/>
                </a:lnTo>
                <a:lnTo>
                  <a:pt x="360" y="1514"/>
                </a:lnTo>
                <a:lnTo>
                  <a:pt x="356" y="1506"/>
                </a:lnTo>
                <a:lnTo>
                  <a:pt x="351" y="1494"/>
                </a:lnTo>
                <a:lnTo>
                  <a:pt x="347" y="1483"/>
                </a:lnTo>
                <a:lnTo>
                  <a:pt x="343" y="1471"/>
                </a:lnTo>
                <a:lnTo>
                  <a:pt x="339" y="1457"/>
                </a:lnTo>
                <a:lnTo>
                  <a:pt x="336" y="1442"/>
                </a:lnTo>
                <a:lnTo>
                  <a:pt x="331" y="1426"/>
                </a:lnTo>
                <a:lnTo>
                  <a:pt x="327" y="1412"/>
                </a:lnTo>
                <a:lnTo>
                  <a:pt x="321" y="1399"/>
                </a:lnTo>
                <a:lnTo>
                  <a:pt x="315" y="1386"/>
                </a:lnTo>
                <a:lnTo>
                  <a:pt x="308" y="1373"/>
                </a:lnTo>
                <a:lnTo>
                  <a:pt x="300" y="1360"/>
                </a:lnTo>
                <a:lnTo>
                  <a:pt x="291" y="1347"/>
                </a:lnTo>
                <a:lnTo>
                  <a:pt x="281" y="1334"/>
                </a:lnTo>
                <a:lnTo>
                  <a:pt x="269" y="1321"/>
                </a:lnTo>
                <a:lnTo>
                  <a:pt x="258" y="1308"/>
                </a:lnTo>
                <a:lnTo>
                  <a:pt x="245" y="1297"/>
                </a:lnTo>
                <a:lnTo>
                  <a:pt x="232" y="1285"/>
                </a:lnTo>
                <a:lnTo>
                  <a:pt x="216" y="1274"/>
                </a:lnTo>
                <a:lnTo>
                  <a:pt x="200" y="1262"/>
                </a:lnTo>
                <a:lnTo>
                  <a:pt x="184" y="1251"/>
                </a:lnTo>
                <a:lnTo>
                  <a:pt x="166" y="1241"/>
                </a:lnTo>
                <a:lnTo>
                  <a:pt x="149" y="1231"/>
                </a:lnTo>
                <a:lnTo>
                  <a:pt x="130" y="1219"/>
                </a:lnTo>
                <a:lnTo>
                  <a:pt x="111" y="1209"/>
                </a:lnTo>
                <a:lnTo>
                  <a:pt x="95" y="1199"/>
                </a:lnTo>
                <a:lnTo>
                  <a:pt x="79" y="1190"/>
                </a:lnTo>
                <a:lnTo>
                  <a:pt x="65" y="1180"/>
                </a:lnTo>
                <a:lnTo>
                  <a:pt x="52" y="1172"/>
                </a:lnTo>
                <a:lnTo>
                  <a:pt x="41" y="1162"/>
                </a:lnTo>
                <a:lnTo>
                  <a:pt x="30" y="1153"/>
                </a:lnTo>
                <a:lnTo>
                  <a:pt x="26" y="1150"/>
                </a:lnTo>
                <a:lnTo>
                  <a:pt x="22" y="1146"/>
                </a:lnTo>
                <a:lnTo>
                  <a:pt x="18" y="1141"/>
                </a:lnTo>
                <a:lnTo>
                  <a:pt x="15" y="1139"/>
                </a:lnTo>
                <a:lnTo>
                  <a:pt x="10" y="1134"/>
                </a:lnTo>
                <a:lnTo>
                  <a:pt x="9" y="1131"/>
                </a:lnTo>
                <a:lnTo>
                  <a:pt x="6" y="1127"/>
                </a:lnTo>
                <a:lnTo>
                  <a:pt x="5" y="1124"/>
                </a:lnTo>
                <a:lnTo>
                  <a:pt x="3" y="1121"/>
                </a:lnTo>
                <a:lnTo>
                  <a:pt x="2" y="1118"/>
                </a:lnTo>
                <a:lnTo>
                  <a:pt x="0" y="1116"/>
                </a:lnTo>
                <a:lnTo>
                  <a:pt x="0" y="1113"/>
                </a:lnTo>
                <a:lnTo>
                  <a:pt x="2" y="1111"/>
                </a:lnTo>
                <a:lnTo>
                  <a:pt x="2" y="1108"/>
                </a:lnTo>
                <a:lnTo>
                  <a:pt x="3" y="1107"/>
                </a:lnTo>
                <a:lnTo>
                  <a:pt x="5" y="1105"/>
                </a:lnTo>
                <a:lnTo>
                  <a:pt x="9" y="1101"/>
                </a:lnTo>
                <a:lnTo>
                  <a:pt x="15" y="1098"/>
                </a:lnTo>
                <a:lnTo>
                  <a:pt x="20" y="1097"/>
                </a:lnTo>
                <a:lnTo>
                  <a:pt x="28" y="1095"/>
                </a:lnTo>
                <a:lnTo>
                  <a:pt x="36" y="1094"/>
                </a:lnTo>
                <a:lnTo>
                  <a:pt x="46" y="1093"/>
                </a:lnTo>
                <a:lnTo>
                  <a:pt x="58" y="1093"/>
                </a:lnTo>
                <a:lnTo>
                  <a:pt x="71" y="1094"/>
                </a:lnTo>
                <a:lnTo>
                  <a:pt x="78" y="1094"/>
                </a:lnTo>
                <a:lnTo>
                  <a:pt x="85" y="1094"/>
                </a:lnTo>
                <a:lnTo>
                  <a:pt x="92" y="1095"/>
                </a:lnTo>
                <a:lnTo>
                  <a:pt x="101" y="1097"/>
                </a:lnTo>
                <a:lnTo>
                  <a:pt x="110" y="1097"/>
                </a:lnTo>
                <a:lnTo>
                  <a:pt x="118" y="1098"/>
                </a:lnTo>
                <a:lnTo>
                  <a:pt x="127" y="1100"/>
                </a:lnTo>
                <a:lnTo>
                  <a:pt x="137" y="1103"/>
                </a:lnTo>
                <a:lnTo>
                  <a:pt x="147" y="1104"/>
                </a:lnTo>
                <a:lnTo>
                  <a:pt x="157" y="1105"/>
                </a:lnTo>
                <a:lnTo>
                  <a:pt x="169" y="1108"/>
                </a:lnTo>
                <a:lnTo>
                  <a:pt x="179" y="1111"/>
                </a:lnTo>
                <a:lnTo>
                  <a:pt x="192" y="1114"/>
                </a:lnTo>
                <a:lnTo>
                  <a:pt x="203" y="1117"/>
                </a:lnTo>
                <a:lnTo>
                  <a:pt x="216" y="1120"/>
                </a:lnTo>
                <a:lnTo>
                  <a:pt x="229" y="1123"/>
                </a:lnTo>
                <a:lnTo>
                  <a:pt x="252" y="1128"/>
                </a:lnTo>
                <a:lnTo>
                  <a:pt x="274" y="1134"/>
                </a:lnTo>
                <a:lnTo>
                  <a:pt x="294" y="1139"/>
                </a:lnTo>
                <a:lnTo>
                  <a:pt x="314" y="1143"/>
                </a:lnTo>
                <a:lnTo>
                  <a:pt x="333" y="1146"/>
                </a:lnTo>
                <a:lnTo>
                  <a:pt x="350" y="1147"/>
                </a:lnTo>
                <a:lnTo>
                  <a:pt x="367" y="1147"/>
                </a:lnTo>
                <a:lnTo>
                  <a:pt x="383" y="1147"/>
                </a:lnTo>
                <a:lnTo>
                  <a:pt x="398" y="1146"/>
                </a:lnTo>
                <a:lnTo>
                  <a:pt x="412" y="1144"/>
                </a:lnTo>
                <a:lnTo>
                  <a:pt x="425" y="1140"/>
                </a:lnTo>
                <a:lnTo>
                  <a:pt x="436" y="1136"/>
                </a:lnTo>
                <a:lnTo>
                  <a:pt x="448" y="1130"/>
                </a:lnTo>
                <a:lnTo>
                  <a:pt x="458" y="1123"/>
                </a:lnTo>
                <a:lnTo>
                  <a:pt x="467" y="1114"/>
                </a:lnTo>
                <a:lnTo>
                  <a:pt x="475" y="1105"/>
                </a:lnTo>
                <a:lnTo>
                  <a:pt x="478" y="1097"/>
                </a:lnTo>
                <a:lnTo>
                  <a:pt x="482" y="1088"/>
                </a:lnTo>
                <a:lnTo>
                  <a:pt x="488" y="1080"/>
                </a:lnTo>
                <a:lnTo>
                  <a:pt x="493" y="1068"/>
                </a:lnTo>
                <a:lnTo>
                  <a:pt x="498" y="1055"/>
                </a:lnTo>
                <a:lnTo>
                  <a:pt x="504" y="1042"/>
                </a:lnTo>
                <a:lnTo>
                  <a:pt x="510" y="1028"/>
                </a:lnTo>
                <a:lnTo>
                  <a:pt x="516" y="1010"/>
                </a:lnTo>
                <a:lnTo>
                  <a:pt x="521" y="993"/>
                </a:lnTo>
                <a:lnTo>
                  <a:pt x="527" y="976"/>
                </a:lnTo>
                <a:lnTo>
                  <a:pt x="533" y="956"/>
                </a:lnTo>
                <a:lnTo>
                  <a:pt x="539" y="934"/>
                </a:lnTo>
                <a:lnTo>
                  <a:pt x="543" y="911"/>
                </a:lnTo>
                <a:lnTo>
                  <a:pt x="549" y="888"/>
                </a:lnTo>
                <a:lnTo>
                  <a:pt x="553" y="864"/>
                </a:lnTo>
                <a:lnTo>
                  <a:pt x="557" y="838"/>
                </a:lnTo>
                <a:lnTo>
                  <a:pt x="560" y="810"/>
                </a:lnTo>
                <a:lnTo>
                  <a:pt x="563" y="784"/>
                </a:lnTo>
                <a:lnTo>
                  <a:pt x="566" y="759"/>
                </a:lnTo>
                <a:lnTo>
                  <a:pt x="567" y="733"/>
                </a:lnTo>
                <a:lnTo>
                  <a:pt x="569" y="708"/>
                </a:lnTo>
                <a:lnTo>
                  <a:pt x="570" y="684"/>
                </a:lnTo>
                <a:lnTo>
                  <a:pt x="570" y="659"/>
                </a:lnTo>
                <a:lnTo>
                  <a:pt x="572" y="635"/>
                </a:lnTo>
                <a:lnTo>
                  <a:pt x="570" y="610"/>
                </a:lnTo>
                <a:lnTo>
                  <a:pt x="570" y="586"/>
                </a:lnTo>
                <a:lnTo>
                  <a:pt x="569" y="563"/>
                </a:lnTo>
                <a:lnTo>
                  <a:pt x="567" y="538"/>
                </a:lnTo>
                <a:lnTo>
                  <a:pt x="566" y="515"/>
                </a:lnTo>
                <a:lnTo>
                  <a:pt x="563" y="492"/>
                </a:lnTo>
                <a:lnTo>
                  <a:pt x="560" y="468"/>
                </a:lnTo>
                <a:lnTo>
                  <a:pt x="557" y="445"/>
                </a:lnTo>
                <a:lnTo>
                  <a:pt x="553" y="425"/>
                </a:lnTo>
                <a:lnTo>
                  <a:pt x="547" y="406"/>
                </a:lnTo>
                <a:lnTo>
                  <a:pt x="542" y="387"/>
                </a:lnTo>
                <a:lnTo>
                  <a:pt x="534" y="368"/>
                </a:lnTo>
                <a:lnTo>
                  <a:pt x="527" y="350"/>
                </a:lnTo>
                <a:lnTo>
                  <a:pt x="518" y="331"/>
                </a:lnTo>
                <a:lnTo>
                  <a:pt x="510" y="314"/>
                </a:lnTo>
                <a:lnTo>
                  <a:pt x="500" y="296"/>
                </a:lnTo>
                <a:lnTo>
                  <a:pt x="490" y="279"/>
                </a:lnTo>
                <a:lnTo>
                  <a:pt x="480" y="262"/>
                </a:lnTo>
                <a:lnTo>
                  <a:pt x="458" y="227"/>
                </a:lnTo>
                <a:lnTo>
                  <a:pt x="436" y="193"/>
                </a:lnTo>
                <a:lnTo>
                  <a:pt x="413" y="160"/>
                </a:lnTo>
                <a:lnTo>
                  <a:pt x="399" y="147"/>
                </a:lnTo>
                <a:lnTo>
                  <a:pt x="385" y="134"/>
                </a:lnTo>
                <a:lnTo>
                  <a:pt x="372" y="121"/>
                </a:lnTo>
                <a:lnTo>
                  <a:pt x="360" y="109"/>
                </a:lnTo>
                <a:lnTo>
                  <a:pt x="349" y="98"/>
                </a:lnTo>
                <a:lnTo>
                  <a:pt x="339" y="88"/>
                </a:lnTo>
                <a:lnTo>
                  <a:pt x="330" y="78"/>
                </a:lnTo>
                <a:lnTo>
                  <a:pt x="321" y="68"/>
                </a:lnTo>
                <a:lnTo>
                  <a:pt x="314" y="59"/>
                </a:lnTo>
                <a:lnTo>
                  <a:pt x="308" y="50"/>
                </a:lnTo>
                <a:lnTo>
                  <a:pt x="303" y="43"/>
                </a:lnTo>
                <a:lnTo>
                  <a:pt x="298" y="37"/>
                </a:lnTo>
                <a:lnTo>
                  <a:pt x="295" y="30"/>
                </a:lnTo>
                <a:lnTo>
                  <a:pt x="292" y="26"/>
                </a:lnTo>
                <a:lnTo>
                  <a:pt x="291" y="21"/>
                </a:lnTo>
                <a:lnTo>
                  <a:pt x="291" y="17"/>
                </a:lnTo>
                <a:lnTo>
                  <a:pt x="291" y="14"/>
                </a:lnTo>
                <a:lnTo>
                  <a:pt x="291" y="11"/>
                </a:lnTo>
                <a:lnTo>
                  <a:pt x="292" y="8"/>
                </a:lnTo>
                <a:lnTo>
                  <a:pt x="294" y="7"/>
                </a:lnTo>
                <a:lnTo>
                  <a:pt x="297" y="6"/>
                </a:lnTo>
                <a:lnTo>
                  <a:pt x="300" y="4"/>
                </a:lnTo>
                <a:lnTo>
                  <a:pt x="303" y="3"/>
                </a:lnTo>
                <a:lnTo>
                  <a:pt x="305" y="1"/>
                </a:lnTo>
                <a:lnTo>
                  <a:pt x="310" y="1"/>
                </a:lnTo>
                <a:lnTo>
                  <a:pt x="314" y="0"/>
                </a:lnTo>
                <a:lnTo>
                  <a:pt x="320" y="0"/>
                </a:lnTo>
                <a:lnTo>
                  <a:pt x="326" y="0"/>
                </a:lnTo>
                <a:lnTo>
                  <a:pt x="331" y="0"/>
                </a:lnTo>
                <a:lnTo>
                  <a:pt x="337" y="0"/>
                </a:lnTo>
                <a:lnTo>
                  <a:pt x="344" y="0"/>
                </a:lnTo>
                <a:lnTo>
                  <a:pt x="353" y="0"/>
                </a:lnTo>
                <a:lnTo>
                  <a:pt x="367" y="0"/>
                </a:lnTo>
                <a:lnTo>
                  <a:pt x="383" y="0"/>
                </a:lnTo>
                <a:lnTo>
                  <a:pt x="399" y="0"/>
                </a:lnTo>
                <a:lnTo>
                  <a:pt x="416" y="1"/>
                </a:lnTo>
                <a:lnTo>
                  <a:pt x="434" y="3"/>
                </a:lnTo>
                <a:lnTo>
                  <a:pt x="452" y="7"/>
                </a:lnTo>
                <a:lnTo>
                  <a:pt x="462" y="8"/>
                </a:lnTo>
                <a:lnTo>
                  <a:pt x="472" y="11"/>
                </a:lnTo>
                <a:lnTo>
                  <a:pt x="484" y="14"/>
                </a:lnTo>
                <a:lnTo>
                  <a:pt x="495" y="17"/>
                </a:lnTo>
                <a:lnTo>
                  <a:pt x="507" y="21"/>
                </a:lnTo>
                <a:lnTo>
                  <a:pt x="518" y="26"/>
                </a:lnTo>
                <a:lnTo>
                  <a:pt x="530" y="33"/>
                </a:lnTo>
                <a:lnTo>
                  <a:pt x="542" y="40"/>
                </a:lnTo>
                <a:lnTo>
                  <a:pt x="553" y="49"/>
                </a:lnTo>
                <a:lnTo>
                  <a:pt x="565" y="59"/>
                </a:lnTo>
                <a:lnTo>
                  <a:pt x="576" y="69"/>
                </a:lnTo>
                <a:lnTo>
                  <a:pt x="588" y="82"/>
                </a:lnTo>
                <a:lnTo>
                  <a:pt x="599" y="95"/>
                </a:lnTo>
                <a:lnTo>
                  <a:pt x="611" y="109"/>
                </a:lnTo>
                <a:lnTo>
                  <a:pt x="622" y="124"/>
                </a:lnTo>
                <a:lnTo>
                  <a:pt x="634" y="139"/>
                </a:lnTo>
                <a:lnTo>
                  <a:pt x="645" y="157"/>
                </a:lnTo>
                <a:lnTo>
                  <a:pt x="657" y="174"/>
                </a:lnTo>
                <a:lnTo>
                  <a:pt x="668" y="193"/>
                </a:lnTo>
                <a:lnTo>
                  <a:pt x="680" y="213"/>
                </a:lnTo>
                <a:lnTo>
                  <a:pt x="690" y="233"/>
                </a:lnTo>
                <a:lnTo>
                  <a:pt x="701" y="255"/>
                </a:lnTo>
                <a:lnTo>
                  <a:pt x="711" y="278"/>
                </a:lnTo>
                <a:lnTo>
                  <a:pt x="721" y="301"/>
                </a:lnTo>
                <a:lnTo>
                  <a:pt x="730" y="324"/>
                </a:lnTo>
                <a:lnTo>
                  <a:pt x="739" y="348"/>
                </a:lnTo>
                <a:lnTo>
                  <a:pt x="747" y="373"/>
                </a:lnTo>
                <a:lnTo>
                  <a:pt x="756" y="399"/>
                </a:lnTo>
                <a:lnTo>
                  <a:pt x="763" y="425"/>
                </a:lnTo>
                <a:lnTo>
                  <a:pt x="770" y="452"/>
                </a:lnTo>
                <a:lnTo>
                  <a:pt x="776" y="479"/>
                </a:lnTo>
                <a:lnTo>
                  <a:pt x="782" y="507"/>
                </a:lnTo>
                <a:lnTo>
                  <a:pt x="788" y="535"/>
                </a:lnTo>
                <a:lnTo>
                  <a:pt x="793" y="564"/>
                </a:lnTo>
                <a:lnTo>
                  <a:pt x="798" y="593"/>
                </a:lnTo>
                <a:lnTo>
                  <a:pt x="802" y="623"/>
                </a:lnTo>
                <a:lnTo>
                  <a:pt x="805" y="656"/>
                </a:lnTo>
                <a:lnTo>
                  <a:pt x="806" y="689"/>
                </a:lnTo>
                <a:lnTo>
                  <a:pt x="808" y="723"/>
                </a:lnTo>
                <a:lnTo>
                  <a:pt x="809" y="754"/>
                </a:lnTo>
                <a:lnTo>
                  <a:pt x="809" y="786"/>
                </a:lnTo>
                <a:lnTo>
                  <a:pt x="808" y="818"/>
                </a:lnTo>
                <a:lnTo>
                  <a:pt x="806" y="849"/>
                </a:lnTo>
                <a:lnTo>
                  <a:pt x="804" y="879"/>
                </a:lnTo>
                <a:lnTo>
                  <a:pt x="801" y="911"/>
                </a:lnTo>
                <a:lnTo>
                  <a:pt x="796" y="941"/>
                </a:lnTo>
                <a:lnTo>
                  <a:pt x="792" y="972"/>
                </a:lnTo>
                <a:lnTo>
                  <a:pt x="786" y="1002"/>
                </a:lnTo>
                <a:lnTo>
                  <a:pt x="782" y="1032"/>
                </a:lnTo>
                <a:lnTo>
                  <a:pt x="775" y="1062"/>
                </a:lnTo>
                <a:lnTo>
                  <a:pt x="769" y="1093"/>
                </a:lnTo>
                <a:lnTo>
                  <a:pt x="762" y="1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6" name="圆角矩形 18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803760" y="3305160"/>
            <a:ext cx="17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啼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3859200" y="2724120"/>
            <a:ext cx="5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03" name="圆角矩形 12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1504800" y="2414520"/>
            <a:ext cx="7456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楼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1"/>
          <p:cNvSpPr/>
          <p:nvPr/>
        </p:nvSpPr>
        <p:spPr>
          <a:xfrm>
            <a:off x="2459160" y="2424240"/>
            <a:ext cx="6207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中国古代南北朝时期，在南方先后出现过宋、齐、梁、陈四个朝代，合称南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诗中指寺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878040" y="2519280"/>
            <a:ext cx="75484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这首诗描写了哪里的景色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中描写的景物是什么样子的？有什么特点 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是怎样来表现景物特点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14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6"/>
          <p:cNvSpPr/>
          <p:nvPr/>
        </p:nvSpPr>
        <p:spPr>
          <a:xfrm>
            <a:off x="1289160" y="2308320"/>
            <a:ext cx="71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千里莺啼绿映红，水村山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郭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酒旗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10"/>
          <p:cNvSpPr/>
          <p:nvPr/>
        </p:nvSpPr>
        <p:spPr>
          <a:xfrm>
            <a:off x="2870280" y="3279600"/>
            <a:ext cx="4697280" cy="9320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marL="536400" indent="-53640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郭：古代在城的外围加筑的一道城墙。“山郭”指靠山的城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1273320" y="4211640"/>
            <a:ext cx="71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千里江南，到处莺歌燕舞，桃红柳绿。在临水的村庄，依山的城郭，到处都有迎风招展的酒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335400" y="290520"/>
            <a:ext cx="2473200" cy="64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"/>
          <p:cNvSpPr/>
          <p:nvPr/>
        </p:nvSpPr>
        <p:spPr>
          <a:xfrm>
            <a:off x="1519200" y="1584360"/>
            <a:ext cx="639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南朝四百八十寺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多少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楼台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烟雨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5"/>
          <p:cNvSpPr/>
          <p:nvPr/>
        </p:nvSpPr>
        <p:spPr>
          <a:xfrm>
            <a:off x="303120" y="2505240"/>
            <a:ext cx="2887920" cy="12697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南朝：中国古代南北朝时期，在南方先后出现过宋、齐、梁、陈四个朝代，合称南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1376280" y="417024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南朝遗留下来的许许多多的寺庙，还有多少矗立在苍茫的烟雨之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4"/>
          <p:cNvSpPr/>
          <p:nvPr/>
        </p:nvSpPr>
        <p:spPr>
          <a:xfrm>
            <a:off x="3298680" y="2508120"/>
            <a:ext cx="2975040" cy="15973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四百八十寺：南朝时在京城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今南京市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造了大量佛寺。这里的“四百八十”不是准确数字，是强调数量之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7"/>
          <p:cNvSpPr/>
          <p:nvPr/>
        </p:nvSpPr>
        <p:spPr>
          <a:xfrm>
            <a:off x="6421320" y="2505240"/>
            <a:ext cx="2549520" cy="5094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楼台：这里指寺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1:14:28Z</dcterms:modified>
  <cp:revision>4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